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199-F94D-4A14-9CA0-CA343026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42A-23C7-4CCE-B0AD-649677BF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576-73CD-44AA-87B5-08840F67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004-D9B6-4193-A551-5F8AF526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26B2-B240-4D06-8180-63E71C42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E914-DEF6-47D5-9D8B-4C39C491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CCEA-F5C0-4438-BC5C-9D81CAEA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95F3-AB1A-4DBD-B0A3-085AF037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CCED-7F16-47E9-ABD2-42870B3A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5FEA-DC17-45C2-B59E-96F08A7E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EE2E-27E9-42A5-B8F8-24266C15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725-8CF8-4BDD-9D6B-119A3FD9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9DE0-7197-43FA-95DF-156D166C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3A74-40F6-441A-AA22-082095D7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AF6C-D1FD-4AA2-B6C2-56AEBB4B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9636-9B5B-46EA-970B-785EB36F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0AFD-9F64-4C20-80C3-632B1387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845-C840-43C9-A52D-D5E9A1E7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92C-4FD4-4208-8D32-2D6BC683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373-CBA4-450B-B042-57CFDCC5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1280-0ED5-400D-B3D9-8C7AEB7B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9BBF-BAA9-47FD-A08F-2C7078B7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84C-5013-4C30-80CF-5B2228F2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5DF-4ABA-44CC-8A73-BDFAD449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855F-17C1-43F8-808D-9E09A175615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E862-E968-4907-83C0-6A631D5577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destination360.com/south-america/brazil/images/st/christ-the-redeemer.jpg&amp;imgrefurl=http://www.destination360.com/south-america/brazil/christ-redeemer.php&amp;usg=__tECCr7U2oSeOb5Tijipm8e126GU=&amp;h=332&amp;w=415&amp;sz=15&amp;hl=en&amp;start=10&amp;tbnid=FEcWZFbIukHvqM:&amp;tbnh=100&amp;tbnw=125&amp;prev=/images%3Fq%3Dchrist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free-slideshow.com/stock-photos/waves_sunsets/magnificent-smoky-sunset.jpg&amp;imgrefurl=http://www.free-slideshow.com/waves_sunsets.shtml&amp;usg=__RtWrj5rqAA-i7HzBj598kXfkLa4=&amp;h=1200&amp;w=1600&amp;sz=415&amp;hl=en&amp;start=10&amp;tbnid=aF6ChiRB2e0WdM:&amp;tbnh=113&amp;tbnw=150&amp;prev=/images%3Fq%3Dmagnificent%26gbv%3D2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oil-painting.us/pictures/the_creation.jpg&amp;imgrefurl=http://www.oil-painting.us/creation.htm&amp;usg=__3cMnUM108Co51YE0VR6iHcxUrq4=&amp;h=343&amp;w=412&amp;sz=17&amp;hl=en&amp;start=4&amp;tbnid=JivNZaoYVTAVZM:&amp;tbnh=104&amp;tbnw=125&amp;prev=/images%3Fq%3Dcreation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i56.photobucket.com/albums/g171/Pinkflamingos163/lauren1484.jpg&amp;imgrefurl=http://www.gaiaonline.com/forum/barton-town/the-insane-assylum-of-the-forgotten/t.44702053/&amp;usg=__qzwgsRoxWi8eI4vrSdFm3qEx5Rk=&amp;h=299&amp;w=448&amp;sz=64&amp;hl=en&amp;start=1&amp;tbnid=imazVuKepgJ8rM:&amp;tbnh=85&amp;tbnw=127&amp;prev=/images%3Fq%3Dhold%2Btogether%2Bin%2Bchrist%26gbv%3D2%26hl%3De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nz/imgres?imgurl=http://gospelife.files.wordpress.com/2008/04/lammmm1.jpg&amp;imgrefurl=http://gospelife.wordpress.com/2008/04/29/the-supremacy-of-christ-over-biology/&amp;usg=__hQRGWMfYjULdRkIa6no1sc_zauE=&amp;h=329&amp;w=637&amp;sz=79&amp;hl=en&amp;start=2&amp;tbnid=PQLzEn-g4BlQqM:&amp;tbnh=71&amp;tbnw=137&amp;prev=/images%3Fq%3Dhold%2Btogether%2Bin%2Bchrist%26gbv%3D2%26hl%3De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.nz/imgres?imgurl=http://www.bandsonfire.com/local/cache-vignettes/L222xH357/laminingif-22d39-7b7bd.gif&amp;imgrefurl=http://www.bandsonfire.com/spip.php%3Farticle1226&amp;usg=__epI54I369MvbfnrpVdg9HJNLWvE=&amp;h=357&amp;w=222&amp;sz=9&amp;hl=en&amp;start=12&amp;tbnid=8KDId8RUF4TqBM:&amp;tbnh=121&amp;tbnw=75&amp;prev=/images%3Fq%3Dhold%2Btogether%2Bin%2Bchrist%26gbv%3D2%26hl%3Den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www.daystr.com/assets/images/calvary.jpg&amp;imgrefurl=http://www.daystr.com/html/calvary.htm&amp;usg=__upcwxtN-_Wurlp-rMeDiWs_qdGI=&amp;h=500&amp;w=386&amp;sz=140&amp;hl=en&amp;start=5&amp;tbnid=P0L6-EwpJ0av1M:&amp;tbnh=130&amp;tbnw=100&amp;prev=/images%3Fq%3Dcalvary%26gbv%3D2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c0000"/>
                </a:solidFill>
                <a:latin typeface="Tahoma"/>
              </a:rPr>
              <a:t>The Supremacy of Chris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52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ssians 1:15-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 for 2009 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hrist is the preeminent 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ship, obedience, respect, aw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etermined to know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nd time with H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ger to lear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etermined to make Him kn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 procla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image of the invisible G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Eik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manifestation, representation, the perfect expression of G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he fullness of God dwelt in Him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v. 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reflects/radiates the glory of God and bears the very stamp of His nature, upholding the universe by the word of His power 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Hebrews 1: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He who has seen Me has seen the Father  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John 14:9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irac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.g. walking on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lear sense of purpo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.g. to Jerusa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.g. talking to the Samaritan wo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orgiven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.g. man lowered through the ro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Unconventional relig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.g. not washing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ray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.g. ‘alone’ oft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00"/>
                </a:solidFill>
                <a:latin typeface="Tahoma"/>
              </a:rPr>
              <a:t>The firstborn over all cre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rotoko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pre-eminence rather than birth ord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ldest son succeeded to the rank and position of head of the family. He inherited a double portion of his father’s proper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was the representative of his family or tribe’s prerogativ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very first born male (man and animal) was holy to the Lor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ld not be used for ordinary tas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onged to the sanctuary for sacri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Human) firstborn males were redeemed (Exodus 13:13, 34:20) and later substituted by the Levi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y him all things were ma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is the cre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ings in heaven and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ible and invi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ones, powers, rulers, author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n institution operating for anything except Him is ultimately futile and misdir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447920"/>
            <a:ext cx="2286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 him all things hold together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d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f you take Christ out of things             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what do you have lef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895480"/>
            <a:ext cx="2590560" cy="1733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2895480"/>
            <a:ext cx="3276720" cy="1698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95280" y="2895480"/>
            <a:ext cx="10922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 is the h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-emin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ol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rough him to reconcile all things to himself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making pe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ough his blood shed on the cro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819520"/>
            <a:ext cx="3114720" cy="3819240"/>
          </a:xfrm>
          <a:prstGeom prst="rect">
            <a:avLst/>
          </a:prstGeom>
          <a:ln w="9360">
            <a:solidFill>
              <a:srgbClr val="8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9:52:53Z</dcterms:created>
  <dc:creator>user</dc:creator>
  <dc:description/>
  <dc:language>en-US</dc:language>
  <cp:lastModifiedBy>user</cp:lastModifiedBy>
  <dcterms:modified xsi:type="dcterms:W3CDTF">2009-01-10T05:37:06Z</dcterms:modified>
  <cp:revision>4</cp:revision>
  <dc:subject/>
  <dc:title>The Supremacy of Christ</dc:title>
</cp:coreProperties>
</file>