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C31-35F6-4267-853B-5E7EB003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4AC-9E7F-48E7-B863-97F4BB85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D9A-21F7-46CE-B848-4C1E40D6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D07-6EFD-4556-B0B5-280551E9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FBBE-193A-496B-BC66-47CD678F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4FA3-70D5-4209-A4C9-0355BD64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F1FB-4622-4367-98B2-08DC4060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F98E-2FF4-4258-9065-EA77E7DF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982C-B43B-4F26-9413-ECA7FC0C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964B-DD8C-462E-93C2-74E1D211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DB1A-DCA9-4E25-9D53-C81F24C0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CDFC-AF4E-4532-97DD-7052F4E3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B5A1-BDA0-4492-B67F-87E0686A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E0F2-AF74-4947-9714-52A203B5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511D-2133-4FE5-8962-11E780E2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4D5C-7282-42A7-919C-AD3BA051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14FC-3DB5-4BD2-9137-E9A1C019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265-6AF0-4AE2-A8A9-7940EA02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5F5-D081-45F0-B441-07B245BD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142-2AFD-4F52-9251-888C7A61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A41-6D13-4762-A3FB-EB632C6A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6A9-BB92-486B-AFA8-EBC87289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159-D891-4E49-AA4E-5251D299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42A-AABB-4D09-9A4D-873643A6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B4A6-D620-4E69-A950-A87EBC002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3023-5DCB-4EAA-9B16-9C5BE0194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ommitted to the church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ssians 1:28 – 2: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76720" y="2209680"/>
            <a:ext cx="2514600" cy="2514600"/>
          </a:xfrm>
          <a:prstGeom prst="rect">
            <a:avLst/>
          </a:prstGeom>
          <a:ln w="936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So commitment to church is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itment to God’s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itment to proclaiming the gosp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itment to admonishing and teac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5181480"/>
            <a:ext cx="2361960" cy="1411560"/>
          </a:xfrm>
          <a:prstGeom prst="rect">
            <a:avLst/>
          </a:prstGeom>
          <a:ln w="9360">
            <a:solidFill>
              <a:srgbClr val="cccc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895480" y="5181480"/>
            <a:ext cx="2057400" cy="1376640"/>
          </a:xfrm>
          <a:prstGeom prst="rect">
            <a:avLst/>
          </a:prstGeom>
          <a:ln w="9360">
            <a:solidFill>
              <a:srgbClr val="cccc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7238880" y="5181480"/>
            <a:ext cx="1752840" cy="1365480"/>
          </a:xfrm>
          <a:prstGeom prst="rect">
            <a:avLst/>
          </a:prstGeom>
          <a:ln w="9360">
            <a:solidFill>
              <a:srgbClr val="cccc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105520" y="5181480"/>
            <a:ext cx="1981080" cy="1371600"/>
          </a:xfrm>
          <a:prstGeom prst="rect">
            <a:avLst/>
          </a:prstGeom>
          <a:ln w="936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The goal is 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our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eper knowledge of Chr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ong fa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getting side trac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15000" y="304920"/>
            <a:ext cx="2936880" cy="3124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791320" y="4638600"/>
            <a:ext cx="2895480" cy="2054160"/>
          </a:xfrm>
          <a:prstGeom prst="rect">
            <a:avLst/>
          </a:prstGeom>
          <a:ln w="936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How can we do this?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mmit in our own hea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ove impedi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y about who to commit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focus: Gospel sharing and maturing fa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end to relation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get side trac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086600" y="4495680"/>
            <a:ext cx="1817640" cy="2210040"/>
          </a:xfrm>
          <a:prstGeom prst="rect">
            <a:avLst/>
          </a:prstGeom>
          <a:ln w="936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4114800" cy="2133720"/>
          </a:xfrm>
          <a:prstGeom prst="rect">
            <a:avLst/>
          </a:prstGeom>
          <a:ln w="9360">
            <a:solidFill>
              <a:srgbClr val="cccc00"/>
            </a:solidFill>
            <a:miter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What do you think of when you hear this?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ending regula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ing generous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e in some area of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yal when others criti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thful over a number of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ying for the leaders,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ing sacrifices to attend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Tahoma"/>
              </a:rPr>
              <a:t>Paul’s commitment to the church was different from this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suffered imprisonment, depr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gave his whole life to proclaiming the Gospel and teaching belie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prayed fervently for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took people with him (training, comp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rote letters to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orked while serving the chu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Tahoma"/>
              </a:rPr>
              <a:t>Paul’s relationship with the Colossians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ten while he was in pris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cccc00"/>
                </a:solidFill>
                <a:latin typeface="Tahoma"/>
              </a:rPr>
              <a:t>4: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elievers he had not personally led to Christ </a:t>
            </a:r>
            <a:r>
              <a:rPr b="0" lang="en-US" sz="2800" spc="-1" strike="noStrike">
                <a:solidFill>
                  <a:srgbClr val="cccc00"/>
                </a:solidFill>
                <a:latin typeface="Tahoma"/>
              </a:rPr>
              <a:t>1: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saw them as part of a community with other churches (Laodecia, Hierapolis, Nympha’s house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ccc00"/>
                </a:solidFill>
                <a:latin typeface="Tahoma"/>
              </a:rPr>
              <a:t>4:13,15,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s their serva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cccc00"/>
                </a:solidFill>
                <a:latin typeface="Tahoma"/>
              </a:rPr>
              <a:t>1: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3352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A servan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a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a task to per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the master’s resources to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focused on the ser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not expect than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warded by the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faithful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81480" y="390600"/>
            <a:ext cx="3733920" cy="2500200"/>
          </a:xfrm>
          <a:prstGeom prst="rect">
            <a:avLst/>
          </a:prstGeom>
          <a:ln w="936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Tahoma"/>
              </a:rPr>
              <a:t>Christ kindles incredible energy within me to do His work. I can hardly sleep because my mind races with ideas of how the kingdom could be further advanced. 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ccff99"/>
                </a:solidFill>
                <a:latin typeface="Tahoma"/>
              </a:rPr>
              <a:t>I frequently review my circumstances to see if there are ways that I could follow Him more closely. 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ccff99"/>
                </a:solidFill>
                <a:latin typeface="Tahoma"/>
              </a:rPr>
              <a:t>I dream dreams of new ministries.                                   I work hard to bring them to life. 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ccff99"/>
                </a:solidFill>
                <a:latin typeface="Tahoma"/>
              </a:rPr>
              <a:t>My body tingles with excitement when I see others engaged in this work.                                                      I yearn for more workers with the same spirit. 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ccff99"/>
                </a:solidFill>
                <a:latin typeface="Tahoma"/>
              </a:rPr>
              <a:t>He increases my capacity to do this . The task is immense, I am bringing every ounce of the energy He gives me to bear on fulfilling as much of it as I ca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00"/>
                </a:solidFill>
                <a:latin typeface="Tahoma"/>
              </a:rPr>
              <a:t>Colossians 1:29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We proclaim Him,</a:t>
            </a:r>
            <a:br>
              <a:rPr sz="4400"/>
            </a:b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admonishing and teaching everyone </a:t>
            </a:r>
            <a:br>
              <a:rPr sz="4400"/>
            </a:b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with all wisdom, </a:t>
            </a:r>
            <a:br>
              <a:rPr sz="4400"/>
            </a:b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so that we may present everyone perfect in Christ.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cccc00"/>
                </a:solidFill>
                <a:latin typeface="Tahoma"/>
              </a:rPr>
              <a:t>Colossians 1:28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My purpose is that they may 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encouraged in hear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cc00"/>
                </a:solidFill>
                <a:latin typeface="Tahoma"/>
              </a:rPr>
              <a:t>2: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united in lov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cc00"/>
                </a:solidFill>
                <a:latin typeface="Tahoma"/>
              </a:rPr>
              <a:t>2: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the full riches of complete understand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cc00"/>
                </a:solidFill>
                <a:latin typeface="Tahoma"/>
              </a:rPr>
              <a:t>2: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Chri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cc00"/>
                </a:solidFill>
                <a:latin typeface="Tahoma"/>
              </a:rPr>
              <a:t>2:2,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be deceiv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cc00"/>
                </a:solidFill>
                <a:latin typeface="Tahoma"/>
              </a:rPr>
              <a:t>2: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firm faith in Chri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cc00"/>
                </a:solidFill>
                <a:latin typeface="Tahoma"/>
              </a:rPr>
              <a:t>2: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How can </a:t>
            </a:r>
            <a:r>
              <a:rPr b="0" lang="en-US" sz="4400" spc="-1" strike="noStrike" u="sng">
                <a:solidFill>
                  <a:srgbClr val="ccff99"/>
                </a:solidFill>
                <a:uFillTx/>
                <a:latin typeface="Tahoma"/>
              </a:rPr>
              <a:t>we</a:t>
            </a: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 do this?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we encourage one anoth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we be ‘united in love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we make sure we have ‘the full riches of complete understanding’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we make sure we are not deceiv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we strengthen our fait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9:42:23Z</dcterms:created>
  <dc:creator>user</dc:creator>
  <dc:description/>
  <dc:language>en-US</dc:language>
  <cp:lastModifiedBy>user</cp:lastModifiedBy>
  <dcterms:modified xsi:type="dcterms:W3CDTF">2009-01-24T19:29:00Z</dcterms:modified>
  <cp:revision>6</cp:revision>
  <dc:subject/>
  <dc:title>Committed to the church</dc:title>
</cp:coreProperties>
</file>