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364B-5F85-4800-9F9E-1213B618C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91B3-645D-4BB2-9D67-D42D85EA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5998-B604-4865-BFD1-032788573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1E9A-8EC0-4BDA-9EF5-7CCDA240D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AB37-9C4C-45FB-B08C-0ACE36D3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169C-7F94-496F-90E8-E94C6288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26FC-3786-486D-8714-536927B1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45D7-817D-43FA-A421-CD257C65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882D-7396-4106-BB46-23227AAB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34BE-3182-4746-A76C-162DDCC6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2B4B-3ED1-42E9-BC06-0FCC7D9A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B527-84B8-4488-B528-12BE293A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238A-97CC-4098-881E-00824873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49FE-8EDE-4FEE-A0DB-DD96F32C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50FF-4537-4352-AF78-CBB5724C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1C32-9728-41F5-B243-9A9EE01BA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35A2-295D-45E5-B897-F6FC5AE70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5E0E-892A-4E93-BF90-FD441313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4814-87AF-4109-A863-677EDC98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1B2F-8844-4120-AE6F-AF903A9F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B09F-6D0F-48C3-B3DC-983CA656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2462-D1C1-490D-BFFB-B21DD969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86B0-A79E-4299-BBE7-3FB42564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811D-C082-4957-B81F-258A7F69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09DA-C5CE-4169-9087-D68E240C49B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88F7-D89E-4ED8-968D-90AF43AA830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352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his is your life!</a:t>
            </a:r>
            <a:br>
              <a:rPr sz="5400"/>
            </a:b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54864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ossians 3:1-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429000" y="380880"/>
            <a:ext cx="1868400" cy="2743200"/>
          </a:xfrm>
          <a:prstGeom prst="rect">
            <a:avLst/>
          </a:prstGeom>
          <a:ln w="9360">
            <a:solidFill>
              <a:srgbClr val="72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Set your heart/mind on things above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fection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Proverbs 23:2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urce of motiva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Exodus 25: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al core e.g. Proverb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Genesis 6: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ir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Proverbs 4:2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ndse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Philippians 2: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way you think/feel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Philippians 1: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al interes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Romans 8: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‘heart’ in Proverb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: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c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: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ret cel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: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ebo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: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otional co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: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thusia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:2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m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:8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titu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428840" cy="1219320"/>
          </a:xfrm>
          <a:prstGeom prst="rect">
            <a:avLst/>
          </a:prstGeom>
          <a:ln w="9360">
            <a:solidFill>
              <a:srgbClr val="72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…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n things abov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ternal treas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ters of the kingd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higher place (an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l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ngs of superior qua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486400" y="1752480"/>
            <a:ext cx="3276720" cy="2678400"/>
          </a:xfrm>
          <a:prstGeom prst="rect">
            <a:avLst/>
          </a:prstGeom>
          <a:ln w="9360">
            <a:solidFill>
              <a:srgbClr val="72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Put to death</a:t>
            </a:r>
            <a:br>
              <a:rPr sz="36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(nekroo = destroy the strength of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ever belongs to your earthly na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Sexual immoral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thought, word, dee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Impur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anything less than 100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Lu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crav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Evil desir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revenge, hatred, anger, resentment, bitterness, jealousy…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Gre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idolatory (wanting mor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Clothe yourselves with …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Compass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pity, distress for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Kindnes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goodness in action, serv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Humil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lowliness of mi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Gentlenes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mild tempered, not dispu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Patienc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longsuffering restra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Forbearanc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suspending judgm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Forgivenes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unconditional favo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Lo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unconditional commi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y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have been raised with Chris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.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r old life is dea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.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ory is our destiny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.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hates si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.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at’s what we were saved from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.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So what’s your response going to be?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Confess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admit to Go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Repentan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turn away from / t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Ask forgivenes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release from guil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Practi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put off / put 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18:44:19Z</dcterms:created>
  <dc:creator>user</dc:creator>
  <dc:description/>
  <dc:language>en-US</dc:language>
  <cp:lastModifiedBy>user</cp:lastModifiedBy>
  <dcterms:modified xsi:type="dcterms:W3CDTF">2009-01-30T19:29:51Z</dcterms:modified>
  <cp:revision>3</cp:revision>
  <dc:subject/>
  <dc:title>This is your life! </dc:title>
</cp:coreProperties>
</file>