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029-04B6-4D16-8F77-EB0223B2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48E5-5A48-4054-AD84-88B7030E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7B84-36F5-4DFD-AB64-4F0391AC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1A43-7239-453B-9D80-EA50A812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4F92-2129-4AAB-8545-61FD9D83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3459-7908-4F08-93AF-BADFF390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BC28-1BC5-4E25-A8B1-D7529884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E468-3C45-4F69-9F18-6FDB94B9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F53E-57A2-401B-B9C4-2BC39442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0E4B-8327-4327-AE6F-39700D3B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9575-CB2E-4542-9BF6-0E5A42BA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F4FB-6EBD-486B-BDFA-9DC1C5D4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4A4F-17A7-4271-97A3-B3CF806A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D64B-0006-44EB-B9D0-29BD4E36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F28C-ABCF-4BBC-93A3-F88E7457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BA6E-6790-45EA-934C-B5253F98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39D6-0F41-4F84-95A3-A309248F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D1B-A1A8-4D33-BAC8-7DD4F787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16D-1A77-4D88-AB33-1E32F13B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3077-F4A0-41E4-8388-2341D906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CE0-3C32-4C0C-BD9D-05EA0261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8EB7-09A9-4578-A472-134D8255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D4F-263C-4FDE-A9A6-009B1614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684-A2F6-4EBB-B08C-EE04B81B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6598-056B-4479-8B82-7A817C9C3DC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E0FF-59A5-4689-9D00-DFFAE8EF9AF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 Christlike mindset: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ezekiah or Tychicus?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32000" y="4508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ssians 4:2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732720" y="4941720"/>
            <a:ext cx="2195280" cy="1535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view from Colossians 3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(set your hearts on things above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ing a Christian means cultivating a Christlike mindse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re to pursue an eternal perspective because we are now in Christ and He is all that really mat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re to seek the “things above”             with single minded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ezekiah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Isaiah 38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t very si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t the death no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ed his face to the w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pt bitter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254640" y="476280"/>
            <a:ext cx="2565360" cy="5832360"/>
          </a:xfrm>
          <a:prstGeom prst="rect">
            <a:avLst/>
          </a:prstGeom>
          <a:ln w="9360">
            <a:solidFill>
              <a:srgbClr val="8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Hezekiah’s respons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lked with you all my life                                     (doesn’t that count for anything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have robbed 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be gone from this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made it through the ‘night’                                but you crushed me at da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can’t praise you when I’m d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stay with the living                          (keep things as they we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24360" y="2421000"/>
            <a:ext cx="3135600" cy="2357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od’s respon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712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ve him another 15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ised reprieve from his enem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ve him an amazing sign               (turned back time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67280" y="333360"/>
            <a:ext cx="30718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ot a happy ending  …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2 Chronicles 32:24 - 33:9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zekiah was healed but became prou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very rich but foolishly revealed all his riches to envoys from Babyl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son Manasseh did much ev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ected poles for Ba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shipped the st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crificed two of his sons in f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acticed sorcery, witchcraft, consulted mediu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967040" cy="2448000"/>
          </a:xfrm>
          <a:prstGeom prst="rect">
            <a:avLst/>
          </a:prstGeom>
          <a:ln w="9360">
            <a:solidFill>
              <a:srgbClr val="8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self indulgent father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oduces evil childr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715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 the priest – sons blasphemed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 Dav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non raped his si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salom killed Amnon and took the king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omon wasted himself with wealth and too many w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7083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stead of that …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olossians 4:2 - 6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ote yourselves to prayer (consistent, disciplined, hard work…continually steadfa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watchful and thankfu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us on 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n door for the mess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ear, powerful procla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one ano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outwardly orientated – to your frie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316872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 example: Tychicus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olossians 4: 7 - 9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ar brother =&gt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tional close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ithful minister =&gt; Committed to tas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llow servan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=&gt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on the same p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&gt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no sense of compet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&gt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travelling with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4221000"/>
            <a:ext cx="2376720" cy="2376720"/>
          </a:xfrm>
          <a:prstGeom prst="rect">
            <a:avLst/>
          </a:prstGeom>
          <a:ln w="9360">
            <a:solidFill>
              <a:srgbClr val="8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20:18:30Z</dcterms:created>
  <dc:creator>user</dc:creator>
  <dc:description/>
  <dc:language>en-US</dc:language>
  <cp:lastModifiedBy>user</cp:lastModifiedBy>
  <dcterms:modified xsi:type="dcterms:W3CDTF">2009-02-27T21:36:15Z</dcterms:modified>
  <cp:revision>3</cp:revision>
  <dc:subject/>
  <dc:title>A Christlike mindset: Hezekiah or Tychicus?</dc:title>
</cp:coreProperties>
</file>