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8B5-7FBE-475A-986D-4286D771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6A0-3CB7-4B2D-AD21-AAC8F777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2B9-0251-484A-B0D8-CD8938D2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4DD-1FCF-4E82-8642-3FD55316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C065-DCF4-4A8C-81E3-C8FBE457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1F24-8DFB-450D-9F3F-16B3337B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0CBD-C91B-42B6-8068-DD536CD8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8425-73A0-46AA-A357-DE2E563D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7C36-E863-47CA-AB21-22FCD429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DD33-71C6-4870-A210-546B2BD0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C743-30B8-4484-BF04-05A9E678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A08-48E3-4D54-9BE9-AE554B45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5E64-27AE-4289-972E-5D60BB56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21E3-4E38-4913-A3C9-C80439FD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D349-91C2-4640-83C2-9FE8173E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CB65-6CEC-4187-815C-7F164455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59A4-0BBA-4866-A587-4A00725A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FD6-A35E-40D3-B8CF-44FF3ED3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63D-6AF1-4F07-AD57-EAC7A475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262-FF78-4B23-8C18-58CA6039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83B-2224-4870-823C-03BA6636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CB3-69E4-4343-A619-971F4249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D60-1B54-479D-9250-51F21FD0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A73-E8F9-4D26-94B9-2EEE64A7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FC47-12A2-4B02-9FDD-F1C1B0A086D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9988-B5A9-40DB-8C25-552F3BC360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uard your heart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erbs 4: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e must learn the inner disciplin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thfu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e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st/fa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nes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given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054240" cy="4581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1993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440000" cy="223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56528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164360" y="3860640"/>
            <a:ext cx="1714680" cy="259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1778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How?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1738440" cy="2235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4360" y="798480"/>
            <a:ext cx="2449440" cy="1849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516720" y="907920"/>
            <a:ext cx="1606680" cy="1729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67440" y="2708280"/>
            <a:ext cx="23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Conf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99920" y="2781360"/>
            <a:ext cx="22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Med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948360" y="3933720"/>
            <a:ext cx="1162080" cy="1800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445800" y="587700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Re-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851280" y="436572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017960" y="627840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r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067280" y="333360"/>
            <a:ext cx="1450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Transformed spee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silence, nourishment, encouragement, hea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lee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bsence of dread, pe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Wisd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guidance, prudence, discre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Transformed relationship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reputation, respect, attraction, reli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…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wellsprings of lif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ur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 spring or stream – orig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64000" y="2708280"/>
            <a:ext cx="2489040" cy="3747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12000" y="2708280"/>
            <a:ext cx="0" cy="3745080"/>
          </a:xfrm>
          <a:prstGeom prst="line">
            <a:avLst/>
          </a:prstGeom>
          <a:ln w="7632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plentiful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source or supply of someth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1633320" cy="201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04000" y="155736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403280" y="4581360"/>
            <a:ext cx="2879640" cy="1490760"/>
          </a:xfrm>
          <a:prstGeom prst="rect">
            <a:avLst/>
          </a:prstGeom>
          <a:ln w="9360">
            <a:solidFill>
              <a:srgbClr val="8c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92720" y="4581360"/>
            <a:ext cx="2664000" cy="1492560"/>
          </a:xfrm>
          <a:prstGeom prst="rect">
            <a:avLst/>
          </a:prstGeom>
          <a:ln w="9360">
            <a:solidFill>
              <a:srgbClr val="8c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016000" cy="2016360"/>
          </a:xfrm>
          <a:prstGeom prst="rect">
            <a:avLst/>
          </a:prstGeom>
          <a:ln w="936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bove all else, guard your affections. For they influence everything else in your lif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ing Bib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uar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125440" cy="252108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3235320" cy="230040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443640" y="404640"/>
            <a:ext cx="1974960" cy="2664000"/>
          </a:xfrm>
          <a:prstGeom prst="rect">
            <a:avLst/>
          </a:prstGeom>
          <a:ln w="9360">
            <a:solidFill>
              <a:srgbClr val="8c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651640" y="3716280"/>
            <a:ext cx="3276360" cy="2208240"/>
          </a:xfrm>
          <a:prstGeom prst="rect">
            <a:avLst/>
          </a:prstGeom>
          <a:ln w="936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omon didn’t …</a:t>
            </a:r>
            <a:br>
              <a:rPr sz="4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 Kings 10:23 – 11:6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ly wealthy – more than any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ly wise – people sought his ad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umula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iots (1400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rses (12,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ves (7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women (3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6054840" y="42530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 Kings 11:3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in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dn’t ...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Genesis 4:1-7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t angry because of the difference in His life sit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face was downc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is crouching at your door; it desires to have you, but you must master i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798560" cy="114912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ar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ner desires, secret desi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ner constru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ivations, attitudes, thou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dden source of all action and spee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(Out of the abundance of the heart 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f you don’t guard your heart 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l desires enter, take root and produce havoc – steal your ‘life’, ensnare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ner evil will grow and overwhelm your decision mak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lose your way – sense of direction, end up taking frantic, irrational op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20000" y="3860640"/>
            <a:ext cx="12859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21:37:41Z</dcterms:created>
  <dc:creator>user</dc:creator>
  <dc:description/>
  <dc:language>en-US</dc:language>
  <cp:lastModifiedBy>user</cp:lastModifiedBy>
  <dcterms:modified xsi:type="dcterms:W3CDTF">2009-04-02T23:10:24Z</dcterms:modified>
  <cp:revision>5</cp:revision>
  <dc:subject/>
  <dc:title>Guard your heart </dc:title>
</cp:coreProperties>
</file>