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7DC-AD8F-4D95-9B67-25923E8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1ED-F91E-4BA3-94B9-968BE6E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B7D-F8A1-4C76-AA30-A4202B4E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D81-C9E7-4F90-B7BC-BDFA3E1E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01DD-F503-4C3C-966C-96978760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1D13-36D5-4366-9822-048BD5B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C75-C0F9-425A-97C8-BC20FC5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EEF-FD01-4D68-8F3C-0C605D0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A36-883B-43E9-A71F-F65AB9C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D082-6792-4E39-A200-EFA813F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6626-D024-49B5-B333-CED3B82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CB7-15F8-4365-B67D-66509AC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8D9-B3EA-4D24-A5BB-13AFFA5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B17-DBFB-49F9-9C2A-C42AE8E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D593-2F51-4327-9813-47D09196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785-B167-4E67-9151-4ED828C0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448-8153-4F65-8DE2-C452DCF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AE2-57F6-4F34-9A5F-3B0848D4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407-5CB7-40E0-B4F5-6F41C25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BA9-2F28-4AF7-A1F7-59D1E9B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BE3-6050-4D07-BFE2-D4D1FD44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EA2-849D-4A02-A81B-3AB89CE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986-683F-4B10-8D56-3DF585C4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FDC-F40F-416B-9BFA-B737DA3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21B-D240-4F74-A857-768161616A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CC42-EF91-4B27-A158-EFD0C7EB59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uard your heart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rbs 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 must learn the inner disciplin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st/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054240" cy="4581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1993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440000" cy="22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1714680" cy="259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How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738440" cy="223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798480"/>
            <a:ext cx="2449440" cy="184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606680" cy="17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7440" y="27082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n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9920" y="278136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948360" y="3933720"/>
            <a:ext cx="116208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445800" y="58770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-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851280" y="43657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17960" y="62784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067280" y="333360"/>
            <a:ext cx="1450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formed spee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silence, nourishment, encouragement, he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bsence of dread,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Wisd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uidance, prudence, discre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formed relationshi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eputation, respect, attraction, rel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wellsprings of lif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spring or stream – orig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2489040" cy="374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12000" y="2708280"/>
            <a:ext cx="0" cy="3745080"/>
          </a:xfrm>
          <a:prstGeom prst="line">
            <a:avLst/>
          </a:prstGeom>
          <a:ln w="7632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lentiful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ource or supply of someth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63332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04000" y="155736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03280" y="4581360"/>
            <a:ext cx="2879640" cy="14907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92720" y="4581360"/>
            <a:ext cx="2664000" cy="14925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016000" cy="20163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ve all else, guard your affections. For they influence everything else in your lif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B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ua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125440" cy="252108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3235320" cy="23004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1974960" cy="266400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651640" y="3716280"/>
            <a:ext cx="3276360" cy="220824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omon didn’t …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Kings 10:23 – 11:6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wealthy – more than an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wise – people sought his ad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mul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iots (1400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ses (12,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ves (7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women (3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054840" y="42530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 Kings 11:3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in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dn’t ...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enesis 4:1-7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angry because of the difference in His life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ace was downc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is crouching at your door; it desires to have you, but you must master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798560" cy="114912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 desires, secret desi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 constru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ations, attitudes,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dden source of all action and spee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(Out of the abundance of the heart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f you don’t guard your heart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l desires enter, take root and produce havoc – steal your ‘life’, ensnare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ner evil will grow and overwhelm your decision ma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lose your way – sense of direction, end up taking frantic, irrational 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20000" y="3860640"/>
            <a:ext cx="1285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1:37:41Z</dcterms:created>
  <dc:creator>user</dc:creator>
  <dc:description/>
  <dc:language>en-US</dc:language>
  <cp:lastModifiedBy>user</cp:lastModifiedBy>
  <dcterms:modified xsi:type="dcterms:W3CDTF">2009-04-02T23:10:24Z</dcterms:modified>
  <cp:revision>5</cp:revision>
  <dc:subject/>
  <dc:title>Guard your heart </dc:title>
</cp:coreProperties>
</file>