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DA2-A986-49FB-BF10-EFBD6D37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B59-AA50-4D73-A0AF-3330CC6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784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D03-D227-4749-8896-2B106C1A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F78-06A9-485B-9304-5B302EF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8B89-FDBA-45EC-A407-341CD5D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09DB-8FD1-4B53-9A5F-F353E8A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D9FC-AD49-42BD-9F18-35DC6AA0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17B-1671-42A3-A793-5BD6316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2DF-C90B-4CCF-9685-D2E9CA4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3AF6-D484-4635-B8AA-B3E0E19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6CE2-1E27-4631-B96D-A2FD47B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AC8-320D-456A-89C5-7E93F94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784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4C9-09C3-467E-9FF6-7B68ABC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CDFC-1642-4E17-9524-EB3B19C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77F-A737-4F5D-AC34-56A5099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784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251-EAB2-4E95-9DCD-9E6FDC1A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1B6-E966-4D89-9E9D-0BC2620B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A98-2897-4FE4-B5AA-05AA564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618-6972-4D9E-8802-BE63A55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F8F-7D32-4A0E-91FB-2CC13EB8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561-79B3-41F5-9E36-9189F42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69F-83D8-4AC9-A164-45C418B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7840" y="394992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9DC-65C7-4184-8C33-4223CFB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736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28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A33-AB11-4189-8AFD-6E5EBBAA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280" cy="5435280"/>
            <a:chOff x="3600" y="1422360"/>
            <a:chExt cx="9143280" cy="543528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200" cy="5435280"/>
              <a:chOff x="31680" y="1422360"/>
              <a:chExt cx="9115200" cy="5435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8320" cy="3349440"/>
              </a:xfrm>
              <a:custGeom>
                <a:avLst/>
                <a:gdLst>
                  <a:gd name="textAreaLeft" fmla="*/ 0 w 4468320"/>
                  <a:gd name="textAreaRight" fmla="*/ 4468680 w 4468320"/>
                  <a:gd name="textAreaTop" fmla="*/ 0 h 3349440"/>
                  <a:gd name="textAreaBottom" fmla="*/ 3349800 h 334944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5680" cy="3755520"/>
              </a:xfrm>
              <a:custGeom>
                <a:avLst/>
                <a:gdLst>
                  <a:gd name="textAreaLeft" fmla="*/ 0 w 6295680"/>
                  <a:gd name="textAreaRight" fmla="*/ 6296040 w 6295680"/>
                  <a:gd name="textAreaTop" fmla="*/ 0 h 3755520"/>
                  <a:gd name="textAreaBottom" fmla="*/ 3755880 h 375552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360" cy="4932000"/>
              </a:xfrm>
              <a:custGeom>
                <a:avLst/>
                <a:gdLst>
                  <a:gd name="textAreaLeft" fmla="*/ 0 w 9099360"/>
                  <a:gd name="textAreaRight" fmla="*/ 9099720 w 9099360"/>
                  <a:gd name="textAreaTop" fmla="*/ 0 h 4932000"/>
                  <a:gd name="textAreaBottom" fmla="*/ 4932360 h 493200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49800" cy="4381200"/>
              </a:xfrm>
              <a:custGeom>
                <a:avLst/>
                <a:gdLst>
                  <a:gd name="textAreaLeft" fmla="*/ 0 w 8749800"/>
                  <a:gd name="textAreaRight" fmla="*/ 8750160 w 8749800"/>
                  <a:gd name="textAreaTop" fmla="*/ 0 h 4381200"/>
                  <a:gd name="textAreaBottom" fmla="*/ 4381560 h 438120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3880" cy="18871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8720" cy="1773000"/>
              </a:xfrm>
              <a:custGeom>
                <a:avLst/>
                <a:gdLst>
                  <a:gd name="textAreaLeft" fmla="*/ 0 w 918720"/>
                  <a:gd name="textAreaRight" fmla="*/ 919080 w 91872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200" cy="3803400"/>
              </a:xfrm>
              <a:custGeom>
                <a:avLst/>
                <a:gdLst>
                  <a:gd name="textAreaLeft" fmla="*/ 0 w 3922200"/>
                  <a:gd name="textAreaRight" fmla="*/ 3922560 w 392220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0480" cy="2141280"/>
              </a:xfrm>
              <a:custGeom>
                <a:avLst/>
                <a:gdLst>
                  <a:gd name="textAreaLeft" fmla="*/ 0 w 2220480"/>
                  <a:gd name="textAreaRight" fmla="*/ 2220840 w 2220480"/>
                  <a:gd name="textAreaTop" fmla="*/ 0 h 2141280"/>
                  <a:gd name="textAreaBottom" fmla="*/ 2141640 h 214128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56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560"/>
                  <a:gd name="textAreaBottom" fmla="*/ 1285920 h 128556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0880" cy="1250640"/>
              </a:xfrm>
              <a:custGeom>
                <a:avLst/>
                <a:gdLst>
                  <a:gd name="textAreaLeft" fmla="*/ 0 w 4520880"/>
                  <a:gd name="textAreaRight" fmla="*/ 4521240 w 4520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160" cy="135540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1355400"/>
                  <a:gd name="textAreaBottom" fmla="*/ 1355760 h 135540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040" cy="3047760"/>
              </a:xfrm>
              <a:custGeom>
                <a:avLst/>
                <a:gdLst>
                  <a:gd name="textAreaLeft" fmla="*/ 0 w 4343040"/>
                  <a:gd name="textAreaRight" fmla="*/ 4343400 w 4343040"/>
                  <a:gd name="textAreaTop" fmla="*/ 0 h 3047760"/>
                  <a:gd name="textAreaBottom" fmla="*/ 3048120 h 304776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525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40680"/>
              <a:ext cx="2193480" cy="2693520"/>
              <a:chOff x="3600" y="3640680"/>
              <a:chExt cx="2193480" cy="269352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8640" y="6164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560" y="61596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9720" y="61516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6000000">
                <a:off x="331920" y="616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6000000">
                <a:off x="289080" y="6173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50200">
                <a:off x="241560" y="61718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8800">
                <a:off x="195480" y="6168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800">
                <a:off x="576360" y="6141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800">
                <a:off x="527400" y="6146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520" y="6154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800">
                <a:off x="428760" y="61624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8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480" y="6086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8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3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080" y="5972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560" y="6000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0480" y="60181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5400">
                <a:off x="912960" y="60386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6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9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900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320" y="5927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5200" y="5694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7400" y="57243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800">
                <a:off x="1390320" y="5756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800">
                <a:off x="1349280" y="5784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440" y="5513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2000" y="5551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760" y="5586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8280" y="562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800">
                <a:off x="1766520" y="532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800">
                <a:off x="1746360" y="5362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7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1680" y="5200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1160" y="5244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400" y="4914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1906560" y="4956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1905120" y="4995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4200">
                <a:off x="1887480" y="5037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800">
                <a:off x="1935000" y="470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800">
                <a:off x="1915920" y="4513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1600">
                <a:off x="1925280" y="4546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1600">
                <a:off x="1929960" y="45846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6200">
                <a:off x="1849320" y="4329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5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440" y="4172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8320" y="419868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3400">
                <a:off x="1609560" y="40291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3400">
                <a:off x="1642680" y="4059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3400">
                <a:off x="1666800" y="4086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240" y="41119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480" cy="23940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3800" y="4981320"/>
                <a:ext cx="1945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800">
                <a:off x="6120" y="4993920"/>
                <a:ext cx="16362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3200">
                <a:off x="1439640" y="3926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3200">
                <a:off x="1476000" y="394668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3200">
                <a:off x="1514520" y="396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9000">
                <a:off x="1546200" y="3983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600">
                <a:off x="1250640" y="3851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600">
                <a:off x="1293480" y="38638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400" y="38750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8360" y="3894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2000">
                <a:off x="1029960" y="380376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240" y="38131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120" y="3821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69640" y="38275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8120" y="38023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000" y="37990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3520" y="3794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2840" y="379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3400" y="38325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600">
                <a:off x="611280" y="38242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3480" y="38181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5200">
                <a:off x="712440" y="38102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8000">
                <a:off x="326880" y="3902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800">
                <a:off x="376200" y="38865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2280" y="38707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3680" y="3853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7920" y="40467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800">
                <a:off x="101160" y="39960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800">
                <a:off x="145800" y="3972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800">
                <a:off x="188640" y="3956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7960" y="39340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8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1080" y="552132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5440" y="444168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0960" y="4525920"/>
                <a:ext cx="5029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7520" y="621468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4000">
                <a:off x="71640" y="6215040"/>
                <a:ext cx="228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800">
                <a:off x="573120" y="61801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600">
                <a:off x="828720" y="61070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800" y="59972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960" y="585468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90400">
                <a:off x="1489320" y="56862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800">
                <a:off x="-28080" y="39787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8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600">
                <a:off x="709200" y="375300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600">
                <a:off x="947520" y="374652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800">
                <a:off x="1172880" y="3787920"/>
                <a:ext cx="245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600">
                <a:off x="1379160" y="38577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90000">
                <a:off x="1561680" y="39639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10000">
                <a:off x="1706400" y="4103640"/>
                <a:ext cx="2743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6400">
                <a:off x="1933200" y="4651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400" y="529704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30000">
                <a:off x="1652400" y="5500440"/>
                <a:ext cx="221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3640" cy="19008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560" cy="1234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59840" cy="1407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400" cy="123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560" cy="1141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560" cy="132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000" cy="187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160" cy="759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400"/>
                <a:ext cx="255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080" y="378792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240" cy="24408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2440" y="5635800"/>
                <a:ext cx="107640" cy="109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240" cy="20188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2018880"/>
                  <a:gd name="textAreaBottom" fmla="*/ 2019240 h 201888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800">
                <a:off x="469440" y="4836960"/>
                <a:ext cx="350640" cy="27576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51" name="Group 2"/>
          <p:cNvGrpSpPr/>
          <p:nvPr/>
        </p:nvGrpSpPr>
        <p:grpSpPr>
          <a:xfrm>
            <a:off x="3600" y="1422360"/>
            <a:ext cx="9143280" cy="5435280"/>
            <a:chOff x="3600" y="1422360"/>
            <a:chExt cx="9143280" cy="5435280"/>
          </a:xfrm>
        </p:grpSpPr>
        <p:grpSp>
          <p:nvGrpSpPr>
            <p:cNvPr id="152" name="Group 3"/>
            <p:cNvGrpSpPr/>
            <p:nvPr/>
          </p:nvGrpSpPr>
          <p:grpSpPr>
            <a:xfrm>
              <a:off x="31680" y="1422360"/>
              <a:ext cx="9115200" cy="5435280"/>
              <a:chOff x="31680" y="1422360"/>
              <a:chExt cx="9115200" cy="5435280"/>
            </a:xfrm>
          </p:grpSpPr>
          <p:sp>
            <p:nvSpPr>
              <p:cNvPr id="153" name="Freeform 4"/>
              <p:cNvSpPr/>
              <p:nvPr/>
            </p:nvSpPr>
            <p:spPr>
              <a:xfrm>
                <a:off x="2220840" y="1771560"/>
                <a:ext cx="4468320" cy="3349440"/>
              </a:xfrm>
              <a:custGeom>
                <a:avLst/>
                <a:gdLst>
                  <a:gd name="textAreaLeft" fmla="*/ 0 w 4468320"/>
                  <a:gd name="textAreaRight" fmla="*/ 4468680 w 4468320"/>
                  <a:gd name="textAreaTop" fmla="*/ 0 h 3349440"/>
                  <a:gd name="textAreaBottom" fmla="*/ 3349800 h 334944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5"/>
              <p:cNvSpPr/>
              <p:nvPr/>
            </p:nvSpPr>
            <p:spPr>
              <a:xfrm>
                <a:off x="1066680" y="1771560"/>
                <a:ext cx="6295680" cy="3755520"/>
              </a:xfrm>
              <a:custGeom>
                <a:avLst/>
                <a:gdLst>
                  <a:gd name="textAreaLeft" fmla="*/ 0 w 6295680"/>
                  <a:gd name="textAreaRight" fmla="*/ 6296040 w 6295680"/>
                  <a:gd name="textAreaTop" fmla="*/ 0 h 3755520"/>
                  <a:gd name="textAreaBottom" fmla="*/ 3755880 h 375552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6"/>
              <p:cNvSpPr/>
              <p:nvPr/>
            </p:nvSpPr>
            <p:spPr>
              <a:xfrm>
                <a:off x="31680" y="1697040"/>
                <a:ext cx="9099360" cy="4932000"/>
              </a:xfrm>
              <a:custGeom>
                <a:avLst/>
                <a:gdLst>
                  <a:gd name="textAreaLeft" fmla="*/ 0 w 9099360"/>
                  <a:gd name="textAreaRight" fmla="*/ 9099720 w 9099360"/>
                  <a:gd name="textAreaTop" fmla="*/ 0 h 4932000"/>
                  <a:gd name="textAreaBottom" fmla="*/ 4932360 h 493200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7"/>
              <p:cNvSpPr/>
              <p:nvPr/>
            </p:nvSpPr>
            <p:spPr>
              <a:xfrm>
                <a:off x="384120" y="1817640"/>
                <a:ext cx="8749800" cy="4381200"/>
              </a:xfrm>
              <a:custGeom>
                <a:avLst/>
                <a:gdLst>
                  <a:gd name="textAreaLeft" fmla="*/ 0 w 8749800"/>
                  <a:gd name="textAreaRight" fmla="*/ 8750160 w 8749800"/>
                  <a:gd name="textAreaTop" fmla="*/ 0 h 4381200"/>
                  <a:gd name="textAreaBottom" fmla="*/ 4381560 h 438120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8"/>
              <p:cNvSpPr/>
              <p:nvPr/>
            </p:nvSpPr>
            <p:spPr>
              <a:xfrm>
                <a:off x="7683480" y="1562040"/>
                <a:ext cx="1253880" cy="18871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9"/>
              <p:cNvSpPr/>
              <p:nvPr/>
            </p:nvSpPr>
            <p:spPr>
              <a:xfrm>
                <a:off x="8211960" y="1422360"/>
                <a:ext cx="918720" cy="1773000"/>
              </a:xfrm>
              <a:custGeom>
                <a:avLst/>
                <a:gdLst>
                  <a:gd name="textAreaLeft" fmla="*/ 0 w 918720"/>
                  <a:gd name="textAreaRight" fmla="*/ 919080 w 91872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0"/>
              <p:cNvSpPr/>
              <p:nvPr/>
            </p:nvSpPr>
            <p:spPr>
              <a:xfrm>
                <a:off x="5224320" y="1536840"/>
                <a:ext cx="3922200" cy="3803400"/>
              </a:xfrm>
              <a:custGeom>
                <a:avLst/>
                <a:gdLst>
                  <a:gd name="textAreaLeft" fmla="*/ 0 w 3922200"/>
                  <a:gd name="textAreaRight" fmla="*/ 3922560 w 392220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1"/>
              <p:cNvSpPr/>
              <p:nvPr/>
            </p:nvSpPr>
            <p:spPr>
              <a:xfrm>
                <a:off x="3755880" y="1693800"/>
                <a:ext cx="2220480" cy="2141280"/>
              </a:xfrm>
              <a:custGeom>
                <a:avLst/>
                <a:gdLst>
                  <a:gd name="textAreaLeft" fmla="*/ 0 w 2220480"/>
                  <a:gd name="textAreaRight" fmla="*/ 2220840 w 2220480"/>
                  <a:gd name="textAreaTop" fmla="*/ 0 h 2141280"/>
                  <a:gd name="textAreaBottom" fmla="*/ 2141640 h 214128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Freeform 12"/>
              <p:cNvSpPr/>
              <p:nvPr/>
            </p:nvSpPr>
            <p:spPr>
              <a:xfrm>
                <a:off x="6786720" y="3224160"/>
                <a:ext cx="1993680" cy="128556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560"/>
                  <a:gd name="textAreaBottom" fmla="*/ 1285920 h 128556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Freeform 13"/>
              <p:cNvSpPr/>
              <p:nvPr/>
            </p:nvSpPr>
            <p:spPr>
              <a:xfrm>
                <a:off x="4626000" y="5518080"/>
                <a:ext cx="4520880" cy="1250640"/>
              </a:xfrm>
              <a:custGeom>
                <a:avLst/>
                <a:gdLst>
                  <a:gd name="textAreaLeft" fmla="*/ 0 w 4520880"/>
                  <a:gd name="textAreaRight" fmla="*/ 4521240 w 4520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8640720" y="1463760"/>
                <a:ext cx="506160" cy="135540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1355400"/>
                  <a:gd name="textAreaBottom" fmla="*/ 1355760 h 135540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Freeform 16"/>
              <p:cNvSpPr/>
              <p:nvPr/>
            </p:nvSpPr>
            <p:spPr>
              <a:xfrm>
                <a:off x="79200" y="3809880"/>
                <a:ext cx="4343040" cy="3047760"/>
              </a:xfrm>
              <a:custGeom>
                <a:avLst/>
                <a:gdLst>
                  <a:gd name="textAreaLeft" fmla="*/ 0 w 4343040"/>
                  <a:gd name="textAreaRight" fmla="*/ 4343400 w 4343040"/>
                  <a:gd name="textAreaTop" fmla="*/ 0 h 3047760"/>
                  <a:gd name="textAreaBottom" fmla="*/ 3048120 h 304776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525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6" name="Group 17"/>
            <p:cNvGrpSpPr/>
            <p:nvPr/>
          </p:nvGrpSpPr>
          <p:grpSpPr>
            <a:xfrm>
              <a:off x="3600" y="3640680"/>
              <a:ext cx="2193480" cy="2693520"/>
              <a:chOff x="3600" y="3640680"/>
              <a:chExt cx="2193480" cy="2693520"/>
            </a:xfrm>
          </p:grpSpPr>
          <p:sp>
            <p:nvSpPr>
              <p:cNvPr id="167" name="Rectangle 18"/>
              <p:cNvSpPr/>
              <p:nvPr/>
            </p:nvSpPr>
            <p:spPr>
              <a:xfrm rot="6798600">
                <a:off x="98640" y="6164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9"/>
              <p:cNvSpPr/>
              <p:nvPr/>
            </p:nvSpPr>
            <p:spPr>
              <a:xfrm rot="6798600">
                <a:off x="52560" y="61596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20"/>
              <p:cNvSpPr/>
              <p:nvPr/>
            </p:nvSpPr>
            <p:spPr>
              <a:xfrm rot="6798600">
                <a:off x="9720" y="61516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21"/>
              <p:cNvSpPr/>
              <p:nvPr/>
            </p:nvSpPr>
            <p:spPr>
              <a:xfrm rot="6000000">
                <a:off x="331920" y="616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22"/>
              <p:cNvSpPr/>
              <p:nvPr/>
            </p:nvSpPr>
            <p:spPr>
              <a:xfrm rot="6000000">
                <a:off x="289080" y="6173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23"/>
              <p:cNvSpPr/>
              <p:nvPr/>
            </p:nvSpPr>
            <p:spPr>
              <a:xfrm rot="6250200">
                <a:off x="241560" y="61718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24"/>
              <p:cNvSpPr/>
              <p:nvPr/>
            </p:nvSpPr>
            <p:spPr>
              <a:xfrm rot="6238800">
                <a:off x="195480" y="6168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25"/>
              <p:cNvSpPr/>
              <p:nvPr/>
            </p:nvSpPr>
            <p:spPr>
              <a:xfrm rot="5380800">
                <a:off x="576360" y="6141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26"/>
              <p:cNvSpPr/>
              <p:nvPr/>
            </p:nvSpPr>
            <p:spPr>
              <a:xfrm rot="5380800">
                <a:off x="527400" y="6146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27"/>
              <p:cNvSpPr/>
              <p:nvPr/>
            </p:nvSpPr>
            <p:spPr>
              <a:xfrm rot="5583000">
                <a:off x="479520" y="6154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Rectangle 28"/>
              <p:cNvSpPr/>
              <p:nvPr/>
            </p:nvSpPr>
            <p:spPr>
              <a:xfrm rot="5737800">
                <a:off x="428760" y="61624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29"/>
              <p:cNvSpPr/>
              <p:nvPr/>
            </p:nvSpPr>
            <p:spPr>
              <a:xfrm rot="4715400">
                <a:off x="819360" y="6078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30"/>
              <p:cNvSpPr/>
              <p:nvPr/>
            </p:nvSpPr>
            <p:spPr>
              <a:xfrm rot="4924800">
                <a:off x="771480" y="6086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Rectangle 31"/>
              <p:cNvSpPr/>
              <p:nvPr/>
            </p:nvSpPr>
            <p:spPr>
              <a:xfrm rot="4924800">
                <a:off x="723960" y="6108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Rectangle 32"/>
              <p:cNvSpPr/>
              <p:nvPr/>
            </p:nvSpPr>
            <p:spPr>
              <a:xfrm rot="5041200">
                <a:off x="676440" y="6113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Rectangle 33"/>
              <p:cNvSpPr/>
              <p:nvPr/>
            </p:nvSpPr>
            <p:spPr>
              <a:xfrm rot="3816600">
                <a:off x="1054080" y="5972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Rectangle 34"/>
              <p:cNvSpPr/>
              <p:nvPr/>
            </p:nvSpPr>
            <p:spPr>
              <a:xfrm rot="3816600">
                <a:off x="1006560" y="6000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Rectangle 35"/>
              <p:cNvSpPr/>
              <p:nvPr/>
            </p:nvSpPr>
            <p:spPr>
              <a:xfrm rot="4104000">
                <a:off x="960480" y="60181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Rectangle 36"/>
              <p:cNvSpPr/>
              <p:nvPr/>
            </p:nvSpPr>
            <p:spPr>
              <a:xfrm rot="4325400">
                <a:off x="912960" y="60386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37"/>
              <p:cNvSpPr/>
              <p:nvPr/>
            </p:nvSpPr>
            <p:spPr>
              <a:xfrm rot="3367800">
                <a:off x="1268640" y="5846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38"/>
              <p:cNvSpPr/>
              <p:nvPr/>
            </p:nvSpPr>
            <p:spPr>
              <a:xfrm rot="3367800">
                <a:off x="1225800" y="58719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Rectangle 39"/>
              <p:cNvSpPr/>
              <p:nvPr/>
            </p:nvSpPr>
            <p:spPr>
              <a:xfrm rot="3367800">
                <a:off x="1182960" y="5900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Rectangle 40"/>
              <p:cNvSpPr/>
              <p:nvPr/>
            </p:nvSpPr>
            <p:spPr>
              <a:xfrm rot="3816600">
                <a:off x="1138320" y="5927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Rectangle 41"/>
              <p:cNvSpPr/>
              <p:nvPr/>
            </p:nvSpPr>
            <p:spPr>
              <a:xfrm rot="2302200">
                <a:off x="1465200" y="5694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Rectangle 42"/>
              <p:cNvSpPr/>
              <p:nvPr/>
            </p:nvSpPr>
            <p:spPr>
              <a:xfrm rot="2302200">
                <a:off x="1427400" y="57243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Rectangle 43"/>
              <p:cNvSpPr/>
              <p:nvPr/>
            </p:nvSpPr>
            <p:spPr>
              <a:xfrm rot="2707800">
                <a:off x="1390320" y="5756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Rectangle 44"/>
              <p:cNvSpPr/>
              <p:nvPr/>
            </p:nvSpPr>
            <p:spPr>
              <a:xfrm rot="2707800">
                <a:off x="1349280" y="5784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Rectangle 45"/>
              <p:cNvSpPr/>
              <p:nvPr/>
            </p:nvSpPr>
            <p:spPr>
              <a:xfrm rot="1525800">
                <a:off x="1630440" y="5513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Rectangle 46"/>
              <p:cNvSpPr/>
              <p:nvPr/>
            </p:nvSpPr>
            <p:spPr>
              <a:xfrm rot="1525800">
                <a:off x="1602000" y="5551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Rectangle 47"/>
              <p:cNvSpPr/>
              <p:nvPr/>
            </p:nvSpPr>
            <p:spPr>
              <a:xfrm rot="1788000">
                <a:off x="1571760" y="5586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Rectangle 48"/>
              <p:cNvSpPr/>
              <p:nvPr/>
            </p:nvSpPr>
            <p:spPr>
              <a:xfrm rot="1788000">
                <a:off x="1538280" y="562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Rectangle 49"/>
              <p:cNvSpPr/>
              <p:nvPr/>
            </p:nvSpPr>
            <p:spPr>
              <a:xfrm rot="841800">
                <a:off x="1766520" y="532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Rectangle 50"/>
              <p:cNvSpPr/>
              <p:nvPr/>
            </p:nvSpPr>
            <p:spPr>
              <a:xfrm rot="841800">
                <a:off x="1746360" y="5362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Rectangle 51"/>
              <p:cNvSpPr/>
              <p:nvPr/>
            </p:nvSpPr>
            <p:spPr>
              <a:xfrm rot="1308600">
                <a:off x="1724040" y="5403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52"/>
              <p:cNvSpPr/>
              <p:nvPr/>
            </p:nvSpPr>
            <p:spPr>
              <a:xfrm rot="1308600">
                <a:off x="1689120" y="5437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 rot="469800">
                <a:off x="1860120" y="5119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Rectangle 54"/>
              <p:cNvSpPr/>
              <p:nvPr/>
            </p:nvSpPr>
            <p:spPr>
              <a:xfrm rot="559800">
                <a:off x="1844640" y="5159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55"/>
              <p:cNvSpPr/>
              <p:nvPr/>
            </p:nvSpPr>
            <p:spPr>
              <a:xfrm rot="733800">
                <a:off x="1831680" y="5200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56"/>
              <p:cNvSpPr/>
              <p:nvPr/>
            </p:nvSpPr>
            <p:spPr>
              <a:xfrm rot="733800">
                <a:off x="1811160" y="5244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57"/>
              <p:cNvSpPr/>
              <p:nvPr/>
            </p:nvSpPr>
            <p:spPr>
              <a:xfrm rot="21306000">
                <a:off x="1922400" y="4914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Rectangle 58"/>
              <p:cNvSpPr/>
              <p:nvPr/>
            </p:nvSpPr>
            <p:spPr>
              <a:xfrm>
                <a:off x="1906560" y="4956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Rectangle 59"/>
              <p:cNvSpPr/>
              <p:nvPr/>
            </p:nvSpPr>
            <p:spPr>
              <a:xfrm>
                <a:off x="1905120" y="4995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60"/>
              <p:cNvSpPr/>
              <p:nvPr/>
            </p:nvSpPr>
            <p:spPr>
              <a:xfrm rot="214200">
                <a:off x="1887480" y="5037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61"/>
              <p:cNvSpPr/>
              <p:nvPr/>
            </p:nvSpPr>
            <p:spPr>
              <a:xfrm rot="20917800">
                <a:off x="1935000" y="470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62"/>
              <p:cNvSpPr/>
              <p:nvPr/>
            </p:nvSpPr>
            <p:spPr>
              <a:xfrm rot="21119400">
                <a:off x="1936440" y="4748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63"/>
              <p:cNvSpPr/>
              <p:nvPr/>
            </p:nvSpPr>
            <p:spPr>
              <a:xfrm rot="21119400">
                <a:off x="1936440" y="47862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64"/>
              <p:cNvSpPr/>
              <p:nvPr/>
            </p:nvSpPr>
            <p:spPr>
              <a:xfrm rot="21329400">
                <a:off x="1935000" y="48272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65"/>
              <p:cNvSpPr/>
              <p:nvPr/>
            </p:nvSpPr>
            <p:spPr>
              <a:xfrm rot="20467800">
                <a:off x="1915920" y="4513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66"/>
              <p:cNvSpPr/>
              <p:nvPr/>
            </p:nvSpPr>
            <p:spPr>
              <a:xfrm rot="20631600">
                <a:off x="1925280" y="4546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67"/>
              <p:cNvSpPr/>
              <p:nvPr/>
            </p:nvSpPr>
            <p:spPr>
              <a:xfrm rot="20631600">
                <a:off x="1929960" y="45846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68"/>
              <p:cNvSpPr/>
              <p:nvPr/>
            </p:nvSpPr>
            <p:spPr>
              <a:xfrm rot="20793600">
                <a:off x="1934640" y="4627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69"/>
              <p:cNvSpPr/>
              <p:nvPr/>
            </p:nvSpPr>
            <p:spPr>
              <a:xfrm rot="20056200">
                <a:off x="1849320" y="4329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70"/>
              <p:cNvSpPr/>
              <p:nvPr/>
            </p:nvSpPr>
            <p:spPr>
              <a:xfrm rot="20257800">
                <a:off x="1866600" y="4368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71"/>
              <p:cNvSpPr/>
              <p:nvPr/>
            </p:nvSpPr>
            <p:spPr>
              <a:xfrm rot="20257800">
                <a:off x="1879200" y="4405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72"/>
              <p:cNvSpPr/>
              <p:nvPr/>
            </p:nvSpPr>
            <p:spPr>
              <a:xfrm rot="20257800">
                <a:off x="1895040" y="443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73"/>
              <p:cNvSpPr/>
              <p:nvPr/>
            </p:nvSpPr>
            <p:spPr>
              <a:xfrm rot="19671000">
                <a:off x="1747440" y="4172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74"/>
              <p:cNvSpPr/>
              <p:nvPr/>
            </p:nvSpPr>
            <p:spPr>
              <a:xfrm rot="19755600">
                <a:off x="1768320" y="419868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75"/>
              <p:cNvSpPr/>
              <p:nvPr/>
            </p:nvSpPr>
            <p:spPr>
              <a:xfrm rot="19847400">
                <a:off x="1792080" y="423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76"/>
              <p:cNvSpPr/>
              <p:nvPr/>
            </p:nvSpPr>
            <p:spPr>
              <a:xfrm rot="19847400">
                <a:off x="1812600" y="4260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77"/>
              <p:cNvSpPr/>
              <p:nvPr/>
            </p:nvSpPr>
            <p:spPr>
              <a:xfrm rot="19133400">
                <a:off x="1609560" y="40291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78"/>
              <p:cNvSpPr/>
              <p:nvPr/>
            </p:nvSpPr>
            <p:spPr>
              <a:xfrm rot="19133400">
                <a:off x="1642680" y="4059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79"/>
              <p:cNvSpPr/>
              <p:nvPr/>
            </p:nvSpPr>
            <p:spPr>
              <a:xfrm rot="19133400">
                <a:off x="1666800" y="4086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80"/>
              <p:cNvSpPr/>
              <p:nvPr/>
            </p:nvSpPr>
            <p:spPr>
              <a:xfrm rot="19257600">
                <a:off x="1695240" y="41119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81"/>
              <p:cNvSpPr/>
              <p:nvPr/>
            </p:nvSpPr>
            <p:spPr>
              <a:xfrm>
                <a:off x="771480" y="4068720"/>
                <a:ext cx="285480" cy="23940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82"/>
              <p:cNvSpPr/>
              <p:nvPr/>
            </p:nvSpPr>
            <p:spPr>
              <a:xfrm rot="6575400">
                <a:off x="-343800" y="4981320"/>
                <a:ext cx="1945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83"/>
              <p:cNvSpPr/>
              <p:nvPr/>
            </p:nvSpPr>
            <p:spPr>
              <a:xfrm rot="238800">
                <a:off x="6120" y="4993920"/>
                <a:ext cx="16362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84"/>
              <p:cNvSpPr/>
              <p:nvPr/>
            </p:nvSpPr>
            <p:spPr>
              <a:xfrm rot="18643200">
                <a:off x="1439640" y="3926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85"/>
              <p:cNvSpPr/>
              <p:nvPr/>
            </p:nvSpPr>
            <p:spPr>
              <a:xfrm rot="18643200">
                <a:off x="1476000" y="394668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86"/>
              <p:cNvSpPr/>
              <p:nvPr/>
            </p:nvSpPr>
            <p:spPr>
              <a:xfrm rot="18643200">
                <a:off x="1514520" y="396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87"/>
              <p:cNvSpPr/>
              <p:nvPr/>
            </p:nvSpPr>
            <p:spPr>
              <a:xfrm rot="18939000">
                <a:off x="1546200" y="3983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88"/>
              <p:cNvSpPr/>
              <p:nvPr/>
            </p:nvSpPr>
            <p:spPr>
              <a:xfrm rot="17961600">
                <a:off x="1250640" y="3851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89"/>
              <p:cNvSpPr/>
              <p:nvPr/>
            </p:nvSpPr>
            <p:spPr>
              <a:xfrm rot="17961600">
                <a:off x="1293480" y="38638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90"/>
              <p:cNvSpPr/>
              <p:nvPr/>
            </p:nvSpPr>
            <p:spPr>
              <a:xfrm rot="18085200">
                <a:off x="1328400" y="38750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91"/>
              <p:cNvSpPr/>
              <p:nvPr/>
            </p:nvSpPr>
            <p:spPr>
              <a:xfrm rot="18379200">
                <a:off x="1368360" y="3894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92"/>
              <p:cNvSpPr/>
              <p:nvPr/>
            </p:nvSpPr>
            <p:spPr>
              <a:xfrm rot="17262000">
                <a:off x="1029960" y="380376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93"/>
              <p:cNvSpPr/>
              <p:nvPr/>
            </p:nvSpPr>
            <p:spPr>
              <a:xfrm rot="17349600">
                <a:off x="1074240" y="38131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94"/>
              <p:cNvSpPr/>
              <p:nvPr/>
            </p:nvSpPr>
            <p:spPr>
              <a:xfrm rot="17349600">
                <a:off x="1122120" y="3821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95"/>
              <p:cNvSpPr/>
              <p:nvPr/>
            </p:nvSpPr>
            <p:spPr>
              <a:xfrm rot="17611200">
                <a:off x="1169640" y="38275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96"/>
              <p:cNvSpPr/>
              <p:nvPr/>
            </p:nvSpPr>
            <p:spPr>
              <a:xfrm rot="16737600">
                <a:off x="798120" y="38023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97"/>
              <p:cNvSpPr/>
              <p:nvPr/>
            </p:nvSpPr>
            <p:spPr>
              <a:xfrm rot="16926600">
                <a:off x="846000" y="37990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98"/>
              <p:cNvSpPr/>
              <p:nvPr/>
            </p:nvSpPr>
            <p:spPr>
              <a:xfrm rot="16953000">
                <a:off x="893520" y="3794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99"/>
              <p:cNvSpPr/>
              <p:nvPr/>
            </p:nvSpPr>
            <p:spPr>
              <a:xfrm rot="17019600">
                <a:off x="942840" y="379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100"/>
              <p:cNvSpPr/>
              <p:nvPr/>
            </p:nvSpPr>
            <p:spPr>
              <a:xfrm rot="16404600">
                <a:off x="563400" y="38325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01"/>
              <p:cNvSpPr/>
              <p:nvPr/>
            </p:nvSpPr>
            <p:spPr>
              <a:xfrm rot="16239600">
                <a:off x="611280" y="38242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102"/>
              <p:cNvSpPr/>
              <p:nvPr/>
            </p:nvSpPr>
            <p:spPr>
              <a:xfrm rot="16311000">
                <a:off x="663480" y="38181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103"/>
              <p:cNvSpPr/>
              <p:nvPr/>
            </p:nvSpPr>
            <p:spPr>
              <a:xfrm rot="16435200">
                <a:off x="712440" y="38102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104"/>
              <p:cNvSpPr/>
              <p:nvPr/>
            </p:nvSpPr>
            <p:spPr>
              <a:xfrm rot="15468000">
                <a:off x="326880" y="3902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105"/>
              <p:cNvSpPr/>
              <p:nvPr/>
            </p:nvSpPr>
            <p:spPr>
              <a:xfrm rot="15379800">
                <a:off x="376200" y="38865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106"/>
              <p:cNvSpPr/>
              <p:nvPr/>
            </p:nvSpPr>
            <p:spPr>
              <a:xfrm rot="15489000">
                <a:off x="422280" y="38707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107"/>
              <p:cNvSpPr/>
              <p:nvPr/>
            </p:nvSpPr>
            <p:spPr>
              <a:xfrm rot="15680400">
                <a:off x="463680" y="3853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108"/>
              <p:cNvSpPr/>
              <p:nvPr/>
            </p:nvSpPr>
            <p:spPr>
              <a:xfrm rot="14223600">
                <a:off x="7920" y="40467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109"/>
              <p:cNvSpPr/>
              <p:nvPr/>
            </p:nvSpPr>
            <p:spPr>
              <a:xfrm rot="14431800">
                <a:off x="101160" y="39960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110"/>
              <p:cNvSpPr/>
              <p:nvPr/>
            </p:nvSpPr>
            <p:spPr>
              <a:xfrm rot="14797800">
                <a:off x="145800" y="3972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111"/>
              <p:cNvSpPr/>
              <p:nvPr/>
            </p:nvSpPr>
            <p:spPr>
              <a:xfrm rot="14797800">
                <a:off x="188640" y="3956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12"/>
              <p:cNvSpPr/>
              <p:nvPr/>
            </p:nvSpPr>
            <p:spPr>
              <a:xfrm rot="15142200">
                <a:off x="237960" y="39340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113"/>
              <p:cNvSpPr/>
              <p:nvPr/>
            </p:nvSpPr>
            <p:spPr>
              <a:xfrm rot="19723200">
                <a:off x="0" y="53388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114"/>
              <p:cNvSpPr/>
              <p:nvPr/>
            </p:nvSpPr>
            <p:spPr>
              <a:xfrm rot="3283800">
                <a:off x="811080" y="552132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115"/>
              <p:cNvSpPr/>
              <p:nvPr/>
            </p:nvSpPr>
            <p:spPr>
              <a:xfrm rot="3283800">
                <a:off x="55440" y="444168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116"/>
              <p:cNvSpPr/>
              <p:nvPr/>
            </p:nvSpPr>
            <p:spPr>
              <a:xfrm rot="19723200">
                <a:off x="1110960" y="4525920"/>
                <a:ext cx="5029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117"/>
              <p:cNvSpPr/>
              <p:nvPr/>
            </p:nvSpPr>
            <p:spPr>
              <a:xfrm rot="5908800">
                <a:off x="317520" y="621468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118"/>
              <p:cNvSpPr/>
              <p:nvPr/>
            </p:nvSpPr>
            <p:spPr>
              <a:xfrm rot="6684000">
                <a:off x="71640" y="6215040"/>
                <a:ext cx="228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119"/>
              <p:cNvSpPr/>
              <p:nvPr/>
            </p:nvSpPr>
            <p:spPr>
              <a:xfrm rot="5245800">
                <a:off x="573120" y="61801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120"/>
              <p:cNvSpPr/>
              <p:nvPr/>
            </p:nvSpPr>
            <p:spPr>
              <a:xfrm rot="4500600">
                <a:off x="828720" y="61070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121"/>
              <p:cNvSpPr/>
              <p:nvPr/>
            </p:nvSpPr>
            <p:spPr>
              <a:xfrm rot="3805200">
                <a:off x="1063800" y="59972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122"/>
              <p:cNvSpPr/>
              <p:nvPr/>
            </p:nvSpPr>
            <p:spPr>
              <a:xfrm rot="3060000">
                <a:off x="1290960" y="585468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123"/>
              <p:cNvSpPr/>
              <p:nvPr/>
            </p:nvSpPr>
            <p:spPr>
              <a:xfrm rot="2090400">
                <a:off x="1489320" y="56862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124"/>
              <p:cNvSpPr/>
              <p:nvPr/>
            </p:nvSpPr>
            <p:spPr>
              <a:xfrm rot="14431800">
                <a:off x="-28080" y="39787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125"/>
              <p:cNvSpPr/>
              <p:nvPr/>
            </p:nvSpPr>
            <p:spPr>
              <a:xfrm rot="15193200">
                <a:off x="215640" y="38628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126"/>
              <p:cNvSpPr/>
              <p:nvPr/>
            </p:nvSpPr>
            <p:spPr>
              <a:xfrm rot="16629600">
                <a:off x="709200" y="375300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127"/>
              <p:cNvSpPr/>
              <p:nvPr/>
            </p:nvSpPr>
            <p:spPr>
              <a:xfrm rot="17301600">
                <a:off x="947520" y="374652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128"/>
              <p:cNvSpPr/>
              <p:nvPr/>
            </p:nvSpPr>
            <p:spPr>
              <a:xfrm rot="17923800">
                <a:off x="1172880" y="3787920"/>
                <a:ext cx="245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129"/>
              <p:cNvSpPr/>
              <p:nvPr/>
            </p:nvSpPr>
            <p:spPr>
              <a:xfrm rot="18411600">
                <a:off x="1379160" y="38577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130"/>
              <p:cNvSpPr/>
              <p:nvPr/>
            </p:nvSpPr>
            <p:spPr>
              <a:xfrm rot="18990000">
                <a:off x="1561680" y="39639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131"/>
              <p:cNvSpPr/>
              <p:nvPr/>
            </p:nvSpPr>
            <p:spPr>
              <a:xfrm rot="19410000">
                <a:off x="1706400" y="4103640"/>
                <a:ext cx="2743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132"/>
              <p:cNvSpPr/>
              <p:nvPr/>
            </p:nvSpPr>
            <p:spPr>
              <a:xfrm rot="19871400">
                <a:off x="1820880" y="426708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133"/>
              <p:cNvSpPr/>
              <p:nvPr/>
            </p:nvSpPr>
            <p:spPr>
              <a:xfrm rot="20427600">
                <a:off x="1901520" y="445284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134"/>
              <p:cNvSpPr/>
              <p:nvPr/>
            </p:nvSpPr>
            <p:spPr>
              <a:xfrm rot="20846400">
                <a:off x="1933200" y="4651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135"/>
              <p:cNvSpPr/>
              <p:nvPr/>
            </p:nvSpPr>
            <p:spPr>
              <a:xfrm rot="21312000">
                <a:off x="1925280" y="4867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136"/>
              <p:cNvSpPr/>
              <p:nvPr/>
            </p:nvSpPr>
            <p:spPr>
              <a:xfrm rot="696600">
                <a:off x="1787400" y="529704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137"/>
              <p:cNvSpPr/>
              <p:nvPr/>
            </p:nvSpPr>
            <p:spPr>
              <a:xfrm rot="1530000">
                <a:off x="1652400" y="5500440"/>
                <a:ext cx="221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138"/>
              <p:cNvSpPr/>
              <p:nvPr/>
            </p:nvSpPr>
            <p:spPr>
              <a:xfrm>
                <a:off x="1349280" y="4978440"/>
                <a:ext cx="323640" cy="19008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139"/>
              <p:cNvSpPr/>
              <p:nvPr/>
            </p:nvSpPr>
            <p:spPr>
              <a:xfrm>
                <a:off x="30240" y="4321080"/>
                <a:ext cx="142560" cy="1234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40"/>
              <p:cNvSpPr/>
              <p:nvPr/>
            </p:nvSpPr>
            <p:spPr>
              <a:xfrm>
                <a:off x="154080" y="4208400"/>
                <a:ext cx="159840" cy="1407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Freeform 141"/>
              <p:cNvSpPr/>
              <p:nvPr/>
            </p:nvSpPr>
            <p:spPr>
              <a:xfrm>
                <a:off x="1074600" y="5559480"/>
                <a:ext cx="131400" cy="123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Freeform 142"/>
              <p:cNvSpPr/>
              <p:nvPr/>
            </p:nvSpPr>
            <p:spPr>
              <a:xfrm>
                <a:off x="1492200" y="4416480"/>
                <a:ext cx="142560" cy="1141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Freeform 143"/>
              <p:cNvSpPr/>
              <p:nvPr/>
            </p:nvSpPr>
            <p:spPr>
              <a:xfrm>
                <a:off x="1425600" y="4311720"/>
                <a:ext cx="142560" cy="132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44"/>
              <p:cNvSpPr/>
              <p:nvPr/>
            </p:nvSpPr>
            <p:spPr>
              <a:xfrm>
                <a:off x="11160" y="6091200"/>
                <a:ext cx="9000" cy="187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45"/>
              <p:cNvSpPr/>
              <p:nvPr/>
            </p:nvSpPr>
            <p:spPr>
              <a:xfrm>
                <a:off x="11160" y="4056120"/>
                <a:ext cx="47160" cy="759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46"/>
              <p:cNvSpPr/>
              <p:nvPr/>
            </p:nvSpPr>
            <p:spPr>
              <a:xfrm>
                <a:off x="11160" y="610092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47"/>
              <p:cNvSpPr/>
              <p:nvPr/>
            </p:nvSpPr>
            <p:spPr>
              <a:xfrm rot="244800">
                <a:off x="1868400" y="5081400"/>
                <a:ext cx="255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48"/>
              <p:cNvSpPr/>
              <p:nvPr/>
            </p:nvSpPr>
            <p:spPr>
              <a:xfrm rot="16001400">
                <a:off x="460080" y="378792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149"/>
              <p:cNvSpPr/>
              <p:nvPr/>
            </p:nvSpPr>
            <p:spPr>
              <a:xfrm>
                <a:off x="220680" y="5672160"/>
                <a:ext cx="228240" cy="24408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150"/>
              <p:cNvSpPr/>
              <p:nvPr/>
            </p:nvSpPr>
            <p:spPr>
              <a:xfrm rot="18742800">
                <a:off x="982440" y="5635800"/>
                <a:ext cx="107640" cy="109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151"/>
              <p:cNvSpPr/>
              <p:nvPr/>
            </p:nvSpPr>
            <p:spPr>
              <a:xfrm>
                <a:off x="372960" y="3973680"/>
                <a:ext cx="552240" cy="20188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2018880"/>
                  <a:gd name="textAreaBottom" fmla="*/ 2019240 h 201888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152"/>
              <p:cNvSpPr/>
              <p:nvPr/>
            </p:nvSpPr>
            <p:spPr>
              <a:xfrm rot="19915800">
                <a:off x="469440" y="4836960"/>
                <a:ext cx="350640" cy="27576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5400" spc="-1" strike="noStrike">
                <a:solidFill>
                  <a:srgbClr val="ccecff"/>
                </a:solidFill>
                <a:latin typeface="Tahoma"/>
              </a:rPr>
              <a:t>Click to edit Master title style</a:t>
            </a:r>
            <a:endParaRPr b="0" lang="en-GB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56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56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271342-A154-4610-9126-8A013CBF070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3600" y="1422360"/>
            <a:ext cx="9143280" cy="5435280"/>
            <a:chOff x="3600" y="1422360"/>
            <a:chExt cx="9143280" cy="543528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200" cy="5435280"/>
              <a:chOff x="31680" y="1422360"/>
              <a:chExt cx="9115200" cy="543528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8320" cy="3349440"/>
              </a:xfrm>
              <a:custGeom>
                <a:avLst/>
                <a:gdLst>
                  <a:gd name="textAreaLeft" fmla="*/ 0 w 4468320"/>
                  <a:gd name="textAreaRight" fmla="*/ 4468680 w 4468320"/>
                  <a:gd name="textAreaTop" fmla="*/ 0 h 3349440"/>
                  <a:gd name="textAreaBottom" fmla="*/ 3349800 h 334944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5680" cy="3755520"/>
              </a:xfrm>
              <a:custGeom>
                <a:avLst/>
                <a:gdLst>
                  <a:gd name="textAreaLeft" fmla="*/ 0 w 6295680"/>
                  <a:gd name="textAreaRight" fmla="*/ 6296040 w 6295680"/>
                  <a:gd name="textAreaTop" fmla="*/ 0 h 3755520"/>
                  <a:gd name="textAreaBottom" fmla="*/ 3755880 h 375552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360" cy="4932000"/>
              </a:xfrm>
              <a:custGeom>
                <a:avLst/>
                <a:gdLst>
                  <a:gd name="textAreaLeft" fmla="*/ 0 w 9099360"/>
                  <a:gd name="textAreaRight" fmla="*/ 9099720 w 9099360"/>
                  <a:gd name="textAreaTop" fmla="*/ 0 h 4932000"/>
                  <a:gd name="textAreaBottom" fmla="*/ 4932360 h 493200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49800" cy="4381200"/>
              </a:xfrm>
              <a:custGeom>
                <a:avLst/>
                <a:gdLst>
                  <a:gd name="textAreaLeft" fmla="*/ 0 w 8749800"/>
                  <a:gd name="textAreaRight" fmla="*/ 8750160 w 8749800"/>
                  <a:gd name="textAreaTop" fmla="*/ 0 h 4381200"/>
                  <a:gd name="textAreaBottom" fmla="*/ 4381560 h 438120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3880" cy="18871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2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8720" cy="1773000"/>
              </a:xfrm>
              <a:custGeom>
                <a:avLst/>
                <a:gdLst>
                  <a:gd name="textAreaLeft" fmla="*/ 0 w 918720"/>
                  <a:gd name="textAreaRight" fmla="*/ 919080 w 91872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200" cy="3803400"/>
              </a:xfrm>
              <a:custGeom>
                <a:avLst/>
                <a:gdLst>
                  <a:gd name="textAreaLeft" fmla="*/ 0 w 3922200"/>
                  <a:gd name="textAreaRight" fmla="*/ 3922560 w 392220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1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0480" cy="2141280"/>
              </a:xfrm>
              <a:custGeom>
                <a:avLst/>
                <a:gdLst>
                  <a:gd name="textAreaLeft" fmla="*/ 0 w 2220480"/>
                  <a:gd name="textAreaRight" fmla="*/ 2220840 w 2220480"/>
                  <a:gd name="textAreaTop" fmla="*/ 0 h 2141280"/>
                  <a:gd name="textAreaBottom" fmla="*/ 2141640 h 214128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56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560"/>
                  <a:gd name="textAreaBottom" fmla="*/ 1285920 h 128556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0880" cy="1250640"/>
              </a:xfrm>
              <a:custGeom>
                <a:avLst/>
                <a:gdLst>
                  <a:gd name="textAreaLeft" fmla="*/ 0 w 4520880"/>
                  <a:gd name="textAreaRight" fmla="*/ 4521240 w 4520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160" cy="135540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1355400"/>
                  <a:gd name="textAreaBottom" fmla="*/ 1355760 h 135540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78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040" cy="3047760"/>
              </a:xfrm>
              <a:custGeom>
                <a:avLst/>
                <a:gdLst>
                  <a:gd name="textAreaLeft" fmla="*/ 0 w 4343040"/>
                  <a:gd name="textAreaRight" fmla="*/ 4343400 w 4343040"/>
                  <a:gd name="textAreaTop" fmla="*/ 0 h 3047760"/>
                  <a:gd name="textAreaBottom" fmla="*/ 3048120 h 304776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525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40680"/>
              <a:ext cx="2193480" cy="2693520"/>
              <a:chOff x="3600" y="3640680"/>
              <a:chExt cx="2193480" cy="269352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98640" y="6164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560" y="61596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9720" y="61516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6000000">
                <a:off x="331920" y="616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6000000">
                <a:off x="289080" y="6173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50200">
                <a:off x="241560" y="61718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8800">
                <a:off x="195480" y="6168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800">
                <a:off x="576360" y="6141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800">
                <a:off x="527400" y="61466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79520" y="6154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800">
                <a:off x="428760" y="61624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19360" y="6078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480" y="6086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8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6440" y="61131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080" y="5972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560" y="6000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0480" y="60181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5400">
                <a:off x="912960" y="60386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68640" y="5846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5800" y="58719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2960" y="5900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320" y="5927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5200" y="5694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7400" y="57243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800">
                <a:off x="1390320" y="5756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800">
                <a:off x="1349280" y="57844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440" y="55130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2000" y="5551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760" y="55861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8280" y="56257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800">
                <a:off x="1766520" y="532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800">
                <a:off x="1746360" y="53622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7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1680" y="52005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1160" y="5244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400" y="4914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>
                <a:off x="1906560" y="4956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>
                <a:off x="1905120" y="49957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4200">
                <a:off x="1887480" y="5037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800">
                <a:off x="1935000" y="470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800">
                <a:off x="1915920" y="4513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1600">
                <a:off x="1925280" y="4546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1600">
                <a:off x="1929960" y="45846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6200">
                <a:off x="1849320" y="4329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53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700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440" y="4172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8320" y="419868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3400">
                <a:off x="1609560" y="40291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3400">
                <a:off x="1642680" y="4059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3400">
                <a:off x="1666800" y="40863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240" y="411192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480" cy="23940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3800" y="4981320"/>
                <a:ext cx="1945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800">
                <a:off x="6120" y="4993920"/>
                <a:ext cx="16362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3200">
                <a:off x="1439640" y="392616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3200">
                <a:off x="1476000" y="394668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3200">
                <a:off x="1514520" y="396396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9000">
                <a:off x="1546200" y="3983040"/>
                <a:ext cx="136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600">
                <a:off x="1250640" y="38512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600">
                <a:off x="1293480" y="38638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400" y="387504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8360" y="3894120"/>
                <a:ext cx="128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2000">
                <a:off x="1029960" y="380376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240" y="38131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2120" y="3821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69640" y="382752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8120" y="380232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6000" y="379908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3520" y="37940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2840" y="379584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3400" y="38325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600">
                <a:off x="611280" y="38242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3480" y="381816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5200">
                <a:off x="712440" y="381024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8000">
                <a:off x="326880" y="39024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800">
                <a:off x="376200" y="38865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2280" y="387072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3680" y="3853080"/>
                <a:ext cx="1090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7920" y="404676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800">
                <a:off x="101160" y="399600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800">
                <a:off x="145800" y="39722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800">
                <a:off x="188640" y="395604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7960" y="3934080"/>
                <a:ext cx="997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800"/>
                <a:ext cx="1188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1080" y="552132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5440" y="4441680"/>
                <a:ext cx="383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0960" y="4525920"/>
                <a:ext cx="5029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7520" y="621468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4000">
                <a:off x="71640" y="6215040"/>
                <a:ext cx="228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800">
                <a:off x="573120" y="61801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600">
                <a:off x="828720" y="61070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800" y="599724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960" y="585468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90400">
                <a:off x="1489320" y="56862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800">
                <a:off x="-28080" y="397872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800"/>
                <a:ext cx="2091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600">
                <a:off x="709200" y="375300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600">
                <a:off x="947520" y="374652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800">
                <a:off x="1172880" y="3787920"/>
                <a:ext cx="245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600">
                <a:off x="1379160" y="38577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90000">
                <a:off x="1561680" y="396396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10000">
                <a:off x="1706400" y="4103640"/>
                <a:ext cx="27432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6400">
                <a:off x="1933200" y="4651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400" y="5297040"/>
                <a:ext cx="23760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30000">
                <a:off x="1652400" y="5500440"/>
                <a:ext cx="22176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3640" cy="19008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560" cy="1234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59840" cy="1407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400" cy="123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560" cy="1141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560" cy="132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000" cy="187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160" cy="759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400"/>
                <a:ext cx="25524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080" y="3787920"/>
                <a:ext cx="218880" cy="187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240" cy="24408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2440" y="5635800"/>
                <a:ext cx="107640" cy="109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240" cy="20188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2018880"/>
                  <a:gd name="textAreaBottom" fmla="*/ 2019240 h 201888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800">
                <a:off x="469440" y="4836960"/>
                <a:ext cx="350640" cy="27576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Master text style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level</a:t>
            </a: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level</a:t>
            </a: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DA084B-55FD-4AF7-9DA2-B2C05507BDB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The lost art of forgiveness</a:t>
            </a:r>
            <a:endParaRPr b="0" lang="en-GB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8: 31-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f we walk in the ligh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John 1:5-10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280" cy="3822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fellowship with one another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cleansed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purified from all unrighteousnes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28480" cy="107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arker Ray’s victim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rred for lif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eed to be careful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she also needs to forgiv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304720" cy="2881080"/>
          </a:xfrm>
          <a:prstGeom prst="rect">
            <a:avLst/>
          </a:prstGeom>
          <a:ln w="9525">
            <a:noFill/>
          </a:ln>
        </p:spPr>
      </p:pic>
      <p:sp>
        <p:nvSpPr>
          <p:cNvPr id="566" name="Text Box 5"/>
          <p:cNvSpPr/>
          <p:nvPr/>
        </p:nvSpPr>
        <p:spPr>
          <a:xfrm>
            <a:off x="6984720" y="5013360"/>
            <a:ext cx="161208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7a"/>
                </a:solidFill>
                <a:latin typeface="Tahoma"/>
              </a:rPr>
              <a:t>Eric B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hat about us?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been forgiven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 need to keep the ‘contrition’ fresh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ask God to cleanse our hearts, thoughts, forgive our action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we need to speak to someon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s forgiveness a lost art?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already forgiven but we need to keep it fresh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rget how forgiveness work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get tangled up in sin                        and need releas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5508720" y="4186080"/>
            <a:ext cx="3412800" cy="247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avid Parker Ray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3 year old sexual sadist in New Mexico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gged women … toy box … 2,3 day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ture, abuse, videos, murder?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37 women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6756480" y="4149720"/>
            <a:ext cx="2387160" cy="270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ame to Police attention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ostitute escaped his attention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ideo of a woman with a tattoo on her leg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ourt trial inconclusiv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trial – convicted, 224 year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7107120" y="4221000"/>
            <a:ext cx="2036520" cy="2636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89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al scene - reflections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28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ghtmare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longer the woman I wa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ore going out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happy person I wa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not trust peop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hes Parker Ray was still aliv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6920" cy="2383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o you have closure?</a:t>
            </a: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person you used to be because of someone else’s actions?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ur determined by past experiences?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free – carrying a huge weight of resentment, pain, anger?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How do you know?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ohn 8:31-33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truck a nerv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 to justify ourselves, declare our innocenc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xpected fits of rage, despair (the emotional wave)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GB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godly aggression (willing to kill)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We need release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ohn 8:34-36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enslaves us (when we commit it; when others commit it against us)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be set free by                            someone bigger than                                 the ‘spider’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4284360" cy="3789000"/>
          </a:xfrm>
          <a:prstGeom prst="rect">
            <a:avLst/>
          </a:prstGeom>
          <a:ln w="9525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28480" cy="107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Have to admit it 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John 1:5-10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28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not hide behind “I am a Christian”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revealed in our behaviour e.g. deceiving one another, breaking trust, abusing one another, hurting one another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6cc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ess = admit, acknowledge (not avoid, work around, conceal, deny, excuse)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28480" cy="107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mpass">
  <a:themeElements>
    <a:clrScheme name="Compass 1">
      <a:dk1>
        <a:srgbClr val="00007a"/>
      </a:dk1>
      <a:lt1>
        <a:srgbClr val="ffffff"/>
      </a:lt1>
      <a:dk2>
        <a:srgbClr val="000066"/>
      </a:dk2>
      <a:lt2>
        <a:srgbClr val="ccecff"/>
      </a:lt2>
      <a:accent1>
        <a:srgbClr val="6f64c2"/>
      </a:accent1>
      <a:accent2>
        <a:srgbClr val="0089ba"/>
      </a:accent2>
      <a:accent3>
        <a:srgbClr val="aaaab8"/>
      </a:accent3>
      <a:accent4>
        <a:srgbClr val="dadada"/>
      </a:accent4>
      <a:accent5>
        <a:srgbClr val="bbb8dd"/>
      </a:accent5>
      <a:accent6>
        <a:srgbClr val="007ca8"/>
      </a:accent6>
      <a:hlink>
        <a:srgbClr val="66ccff"/>
      </a:hlink>
      <a:folHlink>
        <a:srgbClr val="00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mpass">
  <a:themeElements>
    <a:clrScheme name="Compass 1">
      <a:dk1>
        <a:srgbClr val="00007a"/>
      </a:dk1>
      <a:lt1>
        <a:srgbClr val="ffffff"/>
      </a:lt1>
      <a:dk2>
        <a:srgbClr val="000066"/>
      </a:dk2>
      <a:lt2>
        <a:srgbClr val="ccecff"/>
      </a:lt2>
      <a:accent1>
        <a:srgbClr val="6f64c2"/>
      </a:accent1>
      <a:accent2>
        <a:srgbClr val="0089ba"/>
      </a:accent2>
      <a:accent3>
        <a:srgbClr val="aaaab8"/>
      </a:accent3>
      <a:accent4>
        <a:srgbClr val="dadada"/>
      </a:accent4>
      <a:accent5>
        <a:srgbClr val="bbb8dd"/>
      </a:accent5>
      <a:accent6>
        <a:srgbClr val="007ca8"/>
      </a:accent6>
      <a:hlink>
        <a:srgbClr val="66ccff"/>
      </a:hlink>
      <a:folHlink>
        <a:srgbClr val="00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mpass</Template>
  <TotalTime>51</TotalTime>
  <Application>LibreOffice/7.4.7.2$Linux_X86_64 LibreOffice_project/40$Build-2</Application>
  <AppVersion>15.0000</AppVersion>
  <Words>329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3:14:38Z</dcterms:created>
  <dc:creator>user</dc:creator>
  <dc:description/>
  <dc:language>en-US</dc:language>
  <cp:lastModifiedBy>user</cp:lastModifiedBy>
  <dcterms:modified xsi:type="dcterms:W3CDTF">2009-03-07T00:05:41Z</dcterms:modified>
  <cp:revision>2</cp:revision>
  <dc:subject/>
  <dc:title>The lost art of forgive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