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5C7-A799-4255-9662-E8F3F490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2B8-698B-4B92-A4E9-2834B78B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7C9-8844-412A-984B-610D6182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67D-E035-4342-9802-2BFF75AA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11A1-3539-44F0-B5AD-5438CD44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4CE9-1DD2-41B8-89BC-6182AE74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F484-868E-4CBF-AF84-5B41287F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7530-4033-4BA6-AB20-3C5774C5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6339-187C-4BEB-907F-CBA23E4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BBC4-4030-4EA6-9B20-F067197C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BB55-49B6-40B4-804A-7E08C71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DB3-AE5F-4CC0-BE0C-69395B6A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E552-DC63-4B89-A2DE-1196D21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27E4-3E5D-4F51-8BC3-FBD6F7B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29C-2B1C-40B1-BBBF-9BFFD91F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D6F3-B140-40B2-924C-7B0403A5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2C3F-E293-426B-B410-0219BB08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DFC-4B8B-4A6F-ABF3-55FB44B6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F2B-209E-4650-8ACE-EC071040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D99-E300-4102-8583-2B12C4CB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5A8-6AD8-43C2-BFE8-D035D167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173-1BD1-4B08-B2EE-141B5D4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AEB-9EDC-48D6-96BF-440C0E9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9AD-6256-427D-AD0A-0945D60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5F77-C072-4CAB-B8DC-AE5658EDCB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831-FF82-4EE3-B522-2726C9FEFC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You are not an Accident</a:t>
            </a:r>
            <a:br>
              <a:rPr sz="5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salm 139: 1-16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313080" cy="21607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You are who you are for a reason.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You’re part of an intricate plan.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You’re a precious and perfect unique design,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od’s special woman or ma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You look like you look for a reason.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od made no mistake.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He knit you together within the womb,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You’re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just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what he wanted to mak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parents you had were the ones he chose,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nd no matter how you may feel,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y were custom-designed with God’s plan in mind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nd they bear the Master’s seal”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ll you contribu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cour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nd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thusia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i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a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rd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nes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lents, abilities, gif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hysical mainte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cial ev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storal c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te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day sch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shi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s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ayer of a person who knows they are not an accident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ar Lord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k you for making me just as I 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k you for my nose, my face, my body, legs, hands and voi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k you for the place I was born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istory, my present and my fu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k you for my abilities (and weaknesse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k you that I am not an accid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Have you ever wondered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What i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 was born in a different famil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rn at a different time in histor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rn in a different countr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990720" cy="13525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09640" cy="1209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2879640" cy="172908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516720" y="4941720"/>
            <a:ext cx="2232000" cy="16923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564000" y="4941720"/>
            <a:ext cx="2519280" cy="168624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d what about 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ethnic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personalit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physical fea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 talents? My care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ngth of my lif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682720" cy="2595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od decides …</a:t>
            </a:r>
            <a:br>
              <a:rPr sz="40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Psalm 139:1-16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we are born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v.13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long we will l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hape of our lif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v. 16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par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hing is arbitrary – every plant, every animal, every person on 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125360"/>
            <a:ext cx="2822760" cy="21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1196640"/>
            <a:ext cx="6264360" cy="1800360"/>
          </a:xfrm>
          <a:prstGeom prst="rect">
            <a:avLst/>
          </a:prstGeom>
          <a:solidFill>
            <a:srgbClr val="ffffcc">
              <a:alpha val="54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b76"/>
                </a:solidFill>
                <a:latin typeface="Arial"/>
              </a:rPr>
              <a:t>The Purpose Driven Life</a:t>
            </a:r>
            <a:br>
              <a:rPr sz="4000"/>
            </a:br>
            <a:br>
              <a:rPr sz="1600"/>
            </a:br>
            <a:r>
              <a:rPr b="0" lang="en-US" sz="2800" spc="-1" strike="noStrike">
                <a:solidFill>
                  <a:srgbClr val="003b76"/>
                </a:solidFill>
                <a:latin typeface="Arial"/>
              </a:rPr>
              <a:t>(Pages 22,23)</a:t>
            </a:r>
            <a:br>
              <a:rPr sz="2800"/>
            </a:br>
            <a:r>
              <a:rPr b="0" lang="en-US" sz="28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51480" y="5229360"/>
            <a:ext cx="717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God don’t make no junk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re you happy with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physical appea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heig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fam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ngth of your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you are li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r financial circumst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020000" y="2781360"/>
            <a:ext cx="1754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You are not an accide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 is a special contribution you are to make on this ear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-one else can make this particular contribution. It is your destiny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were designed exactly for this purpose – no mista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67640" y="2997360"/>
            <a:ext cx="1387440" cy="1726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tory of the two p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50920" y="2205000"/>
            <a:ext cx="540072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928960" cy="43927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492360" y="1341360"/>
            <a:ext cx="5472360" cy="43783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7:21:06Z</dcterms:created>
  <dc:creator>user</dc:creator>
  <dc:description/>
  <dc:language>en-US</dc:language>
  <cp:lastModifiedBy>user</cp:lastModifiedBy>
  <dcterms:modified xsi:type="dcterms:W3CDTF">2009-06-10T23:29:22Z</dcterms:modified>
  <cp:revision>10</cp:revision>
  <dc:subject/>
  <dc:title>You are not an Accident</dc:title>
</cp:coreProperties>
</file>