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EA21-648D-4AA1-948C-42E504FF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9F41-56DF-4AFD-98FB-5C30A07B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5145-E6CC-48D7-B7C3-40B2D51A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98FC-A697-46D1-856D-5E14A43C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EB1F-ADAF-4CE0-8B48-E015355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0A99-E5BF-4721-B2E8-1DA8FE87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4CC-5E83-4E6E-A089-FED3EBCE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5E48-56A1-4579-881D-FA12358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7110-8D28-43C8-8B89-0923A709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378-5CF5-4C70-8722-A765145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749F-4F74-4574-A8A9-B81C7E7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2554-8BD8-48C9-9C4F-579ED9EF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F97F-C0C8-41D0-B7E5-CFAEE80B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C42-F63A-4907-8473-F3DB1EE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1EB0-5DE8-4231-B0F8-F41D495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BEDD-45AB-496C-A832-758E7F18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E8C-AF97-4E6F-AAC6-9D098BDE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E977-6184-488E-BCF9-E6A6AADF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D454-2330-49CF-B528-BAF18CA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C163-7967-4F44-A2D4-6678FBC2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436D-C087-40C2-948E-DE4B6A8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34BA-62B6-451F-8734-489AC6DD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4768-3384-476A-A288-C390976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188E-6969-4D2D-B106-0BD94E40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A12-565F-4915-BAAE-065094A8F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1FD1-524F-42F8-B4D5-7FEED8102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hat Drives You?</a:t>
            </a:r>
            <a:br>
              <a:rPr sz="5400"/>
            </a:br>
            <a:br>
              <a:rPr sz="2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hesians 5: 8 - 20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eme S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983360" y="189000"/>
            <a:ext cx="951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riven by materialism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sire to acqui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hew 6: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have enoug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verbs 25: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essions don’t love us, they don’t increase our capacity to love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essions do not change so they constantly need up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essions only provide temporary happ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6"/>
          <a:stretch/>
        </p:blipFill>
        <p:spPr>
          <a:xfrm>
            <a:off x="7864560" y="189000"/>
            <a:ext cx="11174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ithout God’s purpose life i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tion without meaning </a:t>
            </a:r>
            <a:br>
              <a:rPr sz="3600"/>
            </a:br>
            <a:br>
              <a:rPr sz="1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tivity without direction </a:t>
            </a:r>
            <a:br>
              <a:rPr sz="3600"/>
            </a:br>
            <a:br>
              <a:rPr sz="1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vents without reason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282680" cy="1271520"/>
          </a:xfrm>
          <a:prstGeom prst="rect">
            <a:avLst/>
          </a:prstGeom>
          <a:ln w="12600">
            <a:solidFill>
              <a:srgbClr val="5252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Let us throw off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verything that hinders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nd the sin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ich so easily entangles, </a:t>
            </a:r>
            <a:br>
              <a:rPr sz="4000"/>
            </a:br>
            <a:br>
              <a:rPr sz="14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nd let us run the race marked out for us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brews 12:1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7983360" y="189000"/>
            <a:ext cx="951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82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b Dylan wrot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body’s got to serve somebo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ay be the dev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it may be the Lo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you’re gonna have to serve someo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f you have not surrendered your life to Christ, 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you will have to serve sel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is is a form of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dolatry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“Everyone who sins is a slave to sin.”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hn 8: 34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the driving force in your life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(s) 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ful memory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unting fear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scious belief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offense e.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77080" y="518328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There are many forces that can drive your life but outside of Christ all lead to the same dead end: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used potential…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nnecessary stress…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n unfulfilled  life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22888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riven by Guilt?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erbs 28:1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takes a lot of energy to spend your life running from regrets or hiding your sham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g. Psalm 32:3,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ilty people are manipulated by memories.    They allow their past to control their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lessness, dissatisf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aiah 57:20,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ppiness I cannot feel and love to me is so unreal. Can you help me? Help me if you can.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Ozzy Osbour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7763040" y="189000"/>
            <a:ext cx="1155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ease from Gui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products of our past but we don’t have to be prisoners of 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 8:31-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’s purpose is not limited to our pa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g. Jacob, Moses, Peter, Rahab, Pa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tion when our sins are forgive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alm 32:1,2 &amp;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983360" y="189000"/>
            <a:ext cx="951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riven by resentment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ing on to hurts. Being offended.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am up? Blow u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releasing pain through forgiveness we rehearse the memories over and ov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ntment always hurts more than the person we rese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brews 12: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ho hurt us in the past cannot continue to hurt us unless we let 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thew 6:14,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1873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riven by fear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you had a traumatic experi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struggle under unrealistic expectations? (e.g. Growing up in a high control ho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-driven people often miss opportunities because they try to maintain the status q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is a self- imposed prison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rbs 29: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7388280" y="189000"/>
            <a:ext cx="1601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9:52:06Z</dcterms:created>
  <dc:creator>user</dc:creator>
  <dc:description/>
  <dc:language>en-US</dc:language>
  <cp:lastModifiedBy>user</cp:lastModifiedBy>
  <dcterms:modified xsi:type="dcterms:W3CDTF">2009-06-22T05:15:02Z</dcterms:modified>
  <cp:revision>19</cp:revision>
  <dc:subject/>
  <dc:title>What Drives You?</dc:title>
</cp:coreProperties>
</file>