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9FC-4025-49C5-B91C-D2E159C6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A08-10A5-453C-92D3-639F21C7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8FA-F6FB-4E8D-8707-641762A0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CC3-8EB0-46A5-AE86-BBB5CD0A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417-6FF4-40E8-A11D-CA4A75B4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4B4-EBE2-40AE-8D88-725CE59A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56B-2E33-4E04-B2A3-2AA6B747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1A1-61EA-4E7C-9FDC-1BF4D644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048-CCBD-40FF-9B8E-BEBFFD36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7FD-D296-440F-8491-3DDF702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D1A-1883-4647-B412-5EF4D819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D1F-4595-42B6-905A-51285CE8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6C8E-64E7-490D-9A1E-77A30C3233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dentifying Areas of Servic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eme S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1989000"/>
            <a:ext cx="23320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astoral Ca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o organise a facility whereby people in need are cared for i.e. how do we know about them, who takes care of them, prayer for them, one to one 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o encourage prayer among our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To provide counselling where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To organise social outings / events for building the ACPC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To help people with raising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To provide marriage preparation and building for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 Stimulate love and concern at all levels e.g. seniors, familie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tact: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Glenda Ch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quipping / Educa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To coordinate the hom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To instigate leadership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To develop preaching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 To encourage and grow the youth min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. To encourage and grow the ministry to children and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. To ensure baptism classes happ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. To stimulate equipping/education at all levels e.g. seniors,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tact: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lbert Ko or Marty 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dministrat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o organise rosters, allocate responsibilities and communicate who is supposed to be doing what e.g. worship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o liaise with the Building Committee/Property Manager regarding the physical requirements and suggestions from the English congregation in relation to the church building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To welcome newcomers &amp; make sure they are connected to someone during morning t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To make sure our communication is excellent e.g. website, newsletters, signage, adver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Liaise with church treasurer with regard to financial needs of the English congreg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tact: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Jean W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God has gifted people to the church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Ephesians 4:11-16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, prophets, evange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ors and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dministrato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postl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Andronicus &amp; Junias (Ro 16: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rophe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bus, Judas &amp; Silas (Acts 15:32),             Philip’s 4 unmarried daughters (Acts 21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vangelis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, Stephen, Epaphras*, Thoma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Pastors and teachers (elder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and Aquill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othy*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iphorus, Claudia, etc (2 Tim); Aristobulus, etc (Ro 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dministrators (deac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ven; Epaphroditus (Phil 2: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urpose</a:t>
            </a:r>
            <a:br>
              <a:rPr sz="40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Ephesians 4: 12, 13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epare (equip) God’s people for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at the Body of Christ may be buil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we all reach unity in the faith and in the knowledge of the 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mature - Christ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12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7775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im the whole bod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ed and held toge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every supporting ligamen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s and builds itself up in l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each part does its work v.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64000" y="4581360"/>
            <a:ext cx="2592360" cy="1995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372360" y="4559400"/>
            <a:ext cx="2592360" cy="2054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2987640" cy="2006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re are different kinds of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fts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but the same Spirit. </a:t>
            </a:r>
            <a:br>
              <a:rPr sz="4000"/>
            </a:br>
            <a:br>
              <a:rPr sz="14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re are different kinds of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vice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but the same Lord. </a:t>
            </a:r>
            <a:br>
              <a:rPr sz="4000"/>
            </a:br>
            <a:br>
              <a:rPr sz="14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re are different kinds of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ing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but the same God works all of them in us.” 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rinthians 12:4-6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9280" y="260280"/>
          <a:ext cx="8713800" cy="6337440"/>
        </p:xfrm>
        <a:graphic>
          <a:graphicData uri="http://schemas.openxmlformats.org/drawingml/2006/table">
            <a:tbl>
              <a:tblPr/>
              <a:tblGrid>
                <a:gridCol w="4464000"/>
                <a:gridCol w="4249800"/>
              </a:tblGrid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Evangelis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n Che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hy Yu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astoral C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enda Cho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bert O’Callah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Equipping/Educa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bert 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ty B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no Yu / Nancy Fo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dministra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an Wo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ny Wa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vangelis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To initiate gospel sh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Alpha, Mandarin stuff, local neighbourhood outreach, seniors, families, students, Mainly Music, through the ACPC web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To instigate activities which we can use to share    the gos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Train people in gospel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tact: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Kathy Yu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1:35:38Z</dcterms:created>
  <dc:creator>user</dc:creator>
  <dc:description/>
  <dc:language>en-US</dc:language>
  <cp:lastModifiedBy>user</cp:lastModifiedBy>
  <dcterms:modified xsi:type="dcterms:W3CDTF">2009-07-09T20:59:47Z</dcterms:modified>
  <cp:revision>5</cp:revision>
  <dc:subject/>
  <dc:title>Identifying Areas of Service</dc:title>
</cp:coreProperties>
</file>