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39BC-951F-41F4-BC9D-75625A95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BE06-8C2C-459C-96B6-E822B290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B55A-8459-494B-89AA-DC434E14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2119-494B-462D-AA0D-FD00B82C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499-3B67-48B5-B95A-412F90C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DAA-20A1-4D80-83E8-8D5438A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A2B7-00DD-4733-A9FA-CCB22BD2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3C4-6E2E-4CD6-8B9F-55BC126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481D-A9E4-4CB8-BBA9-A6F0F3B4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A340-D8C0-489A-9E16-AD4C4CEE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67F6-39C0-47B6-9187-87C8CC2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FD5D-EC2B-4569-9DF8-FF0E1D6A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09E-53D8-4868-9BDF-5D266CA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065-CD76-4D27-8BD7-BDA4B8EF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872-31C2-44D7-94A3-90B6BC0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EBD2-E0A6-42E2-9F9F-D7C90DFA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14A5-1E12-4ECD-B255-5FB5BF97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529B1-A6B5-4B97-965C-911D8340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6519-7652-437E-8A8C-83A7278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101A-7E0D-44D9-A7CA-B31EFA1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4F38-3A72-4329-938A-B86655CB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2C5A-61A7-40DF-A88F-D875C506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8BB0-BAB5-458D-88AB-8B53460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5EF7-B822-4659-B680-D237680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A11A-B317-46F1-8C32-DB6E727ED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3F25-8D0C-4410-B5DB-B475001BA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285840"/>
            <a:ext cx="6858000" cy="6286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6912000" cy="1728720"/>
          </a:xfrm>
          <a:prstGeom prst="rect">
            <a:avLst/>
          </a:prstGeom>
          <a:solidFill>
            <a:srgbClr val="787e8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4d4d"/>
                </a:solidFill>
                <a:latin typeface="Garamond"/>
              </a:rPr>
              <a:t>Made to last forever</a:t>
            </a:r>
            <a:br>
              <a:rPr sz="6000"/>
            </a:br>
            <a:r>
              <a:rPr b="1" lang="en-US" sz="2800" spc="-1" strike="noStrike">
                <a:solidFill>
                  <a:srgbClr val="4d4d4d"/>
                </a:solidFill>
                <a:latin typeface="Garamond"/>
              </a:rPr>
              <a:t>Matthew 24:30-35</a:t>
            </a:r>
            <a:endParaRPr b="1" lang="en-US" sz="28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76360" y="414972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raeme Ster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A bee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A castle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40908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A lantern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4850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An empty race track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1833480"/>
            <a:ext cx="7272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How do people describe you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s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iendl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spit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fu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oughtful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gry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aciou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ta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n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Garamond"/>
              </a:rPr>
              <a:t>How can I bring glory to God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hief end of human existence is to glorify Go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d enjoy Him forev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Garamond"/>
              </a:rPr>
              <a:t>Westminster Shorter Catech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Garamond"/>
              </a:rPr>
              <a:t>When we are living for God 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everything we do                       becomes an act of worship.</a:t>
            </a:r>
            <a:br>
              <a:rPr sz="44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I Corinthians 10:31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Garamond"/>
              </a:rPr>
              <a:t>Life on this earth is a preparation for the next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s and trials reveal our charac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s are windows into our so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lessings are given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not jus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re God gives us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fe is a temporary assig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Christ’s ambassad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believe there is a life for us beyond this o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Garamond"/>
              </a:rPr>
              <a:t>So …</a:t>
            </a: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our values chang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we using our time wisel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we using our money differentl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we placing a high premium on relationship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haracter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we giving a high priority to Body buildi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6686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57080" cy="157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4000" y="5108400"/>
            <a:ext cx="1871640" cy="160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588000" y="5013360"/>
            <a:ext cx="2394000" cy="166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7155000" y="189000"/>
            <a:ext cx="178596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627280" y="33336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592360" cy="2332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95280" y="2997360"/>
            <a:ext cx="2286000" cy="160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796000" y="2781360"/>
            <a:ext cx="3114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1700280"/>
            <a:ext cx="8424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de to last fore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Garamond"/>
              </a:rPr>
              <a:t>Four things that will last forever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God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/ Jesu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Heb. 13:8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God’s Word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att 24:3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Love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1 Cor. 13:1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People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John  5:28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404640"/>
            <a:ext cx="3600720" cy="2592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This life 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repara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for the n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This life is not all there is. </a:t>
            </a:r>
            <a:br>
              <a:rPr sz="4000"/>
            </a:b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Death is not the end of us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ccff"/>
                </a:solidFill>
                <a:latin typeface="Garamond"/>
              </a:rPr>
              <a:t>A time is coming when all who are in their graves will hear His voice and come 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Garamond"/>
              </a:rPr>
              <a:t>John 5:2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aramond"/>
              </a:rPr>
              <a:t>Everyone must die once and then be judged by God   </a:t>
            </a:r>
            <a:r>
              <a:rPr b="0" lang="en-US" sz="2400" spc="-1" strike="noStrike">
                <a:solidFill>
                  <a:srgbClr val="c0c0c0"/>
                </a:solidFill>
                <a:latin typeface="Garamond"/>
              </a:rPr>
              <a:t>Heb. 9:2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cc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Garamond"/>
              </a:rPr>
              <a:t>When we live in the light of eternity…</a:t>
            </a:r>
            <a:r>
              <a:rPr b="1" lang="en-US" sz="4000" spc="-1" strike="noStrike">
                <a:solidFill>
                  <a:srgbClr val="dddddd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values ch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use our time wis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use our money different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place a higher premium on relationshi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haract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give a high priority to Body buil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Every act of our lives strikes a chord that will vibrate in eternity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000" spc="-1" strike="noStrike">
                <a:solidFill>
                  <a:srgbClr val="00ccff"/>
                </a:solidFill>
                <a:latin typeface="Garamond"/>
              </a:rPr>
              <a:t>e.g. Forgive and you will be forgiven</a:t>
            </a:r>
            <a:r>
              <a:rPr b="1" lang="en-US" sz="4400" spc="-1" strike="noStrike">
                <a:solidFill>
                  <a:srgbClr val="00cc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00cc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c0c0c0"/>
                </a:solidFill>
                <a:latin typeface="Garamond"/>
              </a:rPr>
              <a:t>Matt 6:14</a:t>
            </a:r>
            <a:endParaRPr b="1" lang="en-US" sz="36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286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What is the unspoken metaphor of your life?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8:20:00Z</dcterms:created>
  <dc:creator>user</dc:creator>
  <dc:description/>
  <dc:language>en-US</dc:language>
  <cp:lastModifiedBy>user</cp:lastModifiedBy>
  <dcterms:modified xsi:type="dcterms:W3CDTF">2009-07-25T20:38:33Z</dcterms:modified>
  <cp:revision>13</cp:revision>
  <dc:subject/>
  <dc:title>Made to last forever</dc:title>
</cp:coreProperties>
</file>