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1AD-6A36-4242-A1EE-FB12BB9C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F92-E851-471B-A6C1-9DB18AA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690-81B0-44FE-B4CF-28C3B22F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F29-885F-4D75-AA41-D2D6C5A3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ACBC-83C0-4760-B3F8-7BEC20FA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57CB-1F9D-4A68-AA4A-89B5425D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898-9FC1-4909-90E4-367ECF4D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0C10-1B31-4E4F-9472-45CD035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3F52-AD18-4541-8686-55FD08B6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9602-8582-4F88-9ED9-C6D2575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1DAE-0D19-4B60-B39E-8A569CFC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59E-6064-4AFD-A7BC-E94B915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F779-EA9F-4BA1-8AA7-EA422E6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E8F9-59F1-4F09-B727-C7A2021C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AAAC-9BA0-4CC9-8BF3-37961CD9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44D0-EC3B-4A9F-B1A4-96738623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7422-B407-47D6-B9BC-DEDD0B9D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E14-212A-4329-BFDC-B5ED7A53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4D4-83FC-4812-AA6D-5B8A526E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38F-BE69-47A5-9736-3BA9141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5D0-6B3D-4381-95DF-EBB3B2A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B81-E7A3-4689-80EB-20D9042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6F6-E314-4011-9FF3-F279486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998-6100-4CDD-9B5D-8303D8DA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41CE-BB65-4D0B-859C-66D254DEE2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C189-B764-4B94-8552-A30E067D24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19640" cy="4808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708660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Heart of Worship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cah 6:6-8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16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eme Ster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erfect love casts out fear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ver lets us out of His s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es about every detail of our l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s us capacity to enjoy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s all things for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gone to prepare a place for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patient with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us with our burd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arrier 2: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rid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lf suffici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.g. Rich young ru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bellious spir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.g. Isaiah 30: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nk we know b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.g. Prov. 3:5,6,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Unwilling to lear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.g. Proverbs 9: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88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arrier 3: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Ignoranc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render is no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resig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ing up rational th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sing our pers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ing a spiritual existence and leaving this life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urrender is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demonstrated in obedience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.g. Peter in the fishing bo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ing to a challenge with praye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.g. David &amp; Goliath, Daniel, Mary, Hanna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ting God do His work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.g. Abraham, Rebecca, Saul, M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ed in relationships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.g. Jesus in the garden, Mary and Mart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he blessings of surrende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a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saiah 30: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dom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John 8:3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omans 8:5-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ness of a man’s power is in the measure of his surrender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William Booth (Founder of the Salvation Arm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not fulfill God’s purposes for our life while focusing on our own pl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’m coming back to th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eart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of worship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And it’s all about You.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t’s all about you Jesu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’m sorry Lord for the thing I’ve made it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‘Cos it’s all about you.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It’s all about You Jes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0000" y="26028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utward expressions of Worship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817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ing, music, celebrating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salm 1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wing down to the ground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Psalm 95: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ying – privately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Matthew 6: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raising hand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 Timothy 2: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ing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Matt. 6:16-1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dien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om. 12:1,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tating on the word of G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ut. 17:18 - 2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ing mone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II Cor. 8: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761080" cy="480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ese are outward actions that come from something much deep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heart of worship               i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urrend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Hosea 6: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Micah 6: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rue worship happens when we surrender to God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ielding to the Spir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ing Chr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ing a dis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ing ‘all out’ for G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ct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ting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80240" y="1844640"/>
            <a:ext cx="32637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357660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hen God gets a hold of your life he does not want to trim a branch here and there.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He wants the whole tree       – all of it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Book Antiqua"/>
              </a:rPr>
              <a:t>C.S. Lewi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70440" y="0"/>
            <a:ext cx="427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aradoxes in Christiani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s are free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lose our life we gai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f we try to hold onto our life we lose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give we will rece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render is a noble thing to 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arriers that block total surrend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ea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letting 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i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want to admit I need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gnor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know what it invol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arrier 1: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ear of letting g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keep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scared of what           surrender might m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in our heads that we should trust God but our feelings pull in another di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907320" y="1916280"/>
            <a:ext cx="1884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20:42:30Z</dcterms:created>
  <dc:creator>user</dc:creator>
  <dc:description/>
  <dc:language>en-US</dc:language>
  <cp:lastModifiedBy>user</cp:lastModifiedBy>
  <dcterms:modified xsi:type="dcterms:W3CDTF">2009-08-06T02:26:07Z</dcterms:modified>
  <cp:revision>9</cp:revision>
  <dc:subject/>
  <dc:title>The Heart of Worship</dc:title>
</cp:coreProperties>
</file>